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alternanza scuola-lavoro in Tosc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9AACBD64-3FC8-4A90-9645-A63D9C7A670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alternanza scuola-lavoro in Tosc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0113CC37-93CE-4329-8649-6DD6E0DDF8D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59BA2654-8FC0-4D59-BD45-3E640F96E9F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alternanza scuola-lavoro in Tosc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02F30014-302B-4F83-AB37-2C8D24C3C33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egnaposto numero diapositiva 3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DD15D9D-91A7-4A4F-A12D-866103574A9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3121941-978E-45B6-8ECA-F6F9911DA5F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273547-6743-4AE7-9C2A-FC6F140E2F8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CF9056-EBA8-4D9D-A662-5380C4622FB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egnaposto numero diapositiva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2D6713E6-8206-4F3A-8827-01A4658526F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alternanza scuola-lavoro in Tosc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3AB60511-4B04-4954-8E4E-1F4B5B7EFA9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A8FCD55-7B2D-42A8-A120-4522F258DAE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egnaposto numero diapositiva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BD43-17E8-43A3-9364-E80CE6EC1B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egnaposto numero diapositiva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4C08-5EDB-40FD-9BC0-4AADC000C52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egnaposto numero diapositiva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7BA6-153F-40BF-B830-DB7DFF0A7D8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7914B5A-6FED-48BA-A538-0E47927CCE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96959B-C640-407F-BA14-46C0C2FF77A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4000"/>
                <a:tab algn="l" pos="2239920"/>
                <a:tab algn="l" pos="298620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  <a:tab algn="l" pos="10198080"/>
                <a:tab algn="l" pos="10661760"/>
              </a:tabLst>
            </a:pPr>
            <a:fld id="{35746874-7783-4700-986C-E8536013ED7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8240" bIns="4824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3520"/>
                <a:tab algn="l" pos="4716360"/>
                <a:tab algn="l" pos="5659560"/>
                <a:tab algn="l" pos="6602400"/>
                <a:tab algn="l" pos="7545240"/>
                <a:tab algn="l" pos="8488440"/>
                <a:tab algn="l" pos="9431280"/>
                <a:tab algn="l" pos="10375920"/>
                <a:tab algn="l" pos="10661760"/>
              </a:tabLst>
            </a:pPr>
            <a:fld id="{3E1FF5F8-0AD4-4656-AC14-BF963E293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alternanza scuola-lavoro in Tosc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744608F8-329F-4D8B-A765-DD5A09273E6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egnaposto numero diapositiva 3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31E237C-0FD4-4425-8E5F-AB407C78CF6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4000"/>
                <a:tab algn="l" pos="2239920"/>
                <a:tab algn="l" pos="298620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  <a:tab algn="l" pos="10198080"/>
                <a:tab algn="l" pos="10661760"/>
              </a:tabLst>
            </a:pPr>
            <a:fld id="{EB33EDDE-E5D0-40F5-BE3C-0788C790C0E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8240" bIns="4824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3520"/>
                <a:tab algn="l" pos="4716360"/>
                <a:tab algn="l" pos="5659560"/>
                <a:tab algn="l" pos="6602400"/>
                <a:tab algn="l" pos="7545240"/>
                <a:tab algn="l" pos="8488440"/>
                <a:tab algn="l" pos="9431280"/>
                <a:tab algn="l" pos="10375920"/>
                <a:tab algn="l" pos="10661760"/>
              </a:tabLst>
            </a:pPr>
            <a:fld id="{B8E6483A-F3B9-4300-B86D-0BE1742E1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1A77B-C41A-4060-A139-D99DC42F2F9A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E284EE-7758-490A-8E4A-40AA1D56A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82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DC8D-3FEF-4504-B512-1816A64A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2A4C-1342-4D43-8FA0-1A12AA46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CB9C-1186-4F3E-9755-4F6270B9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C396-F50B-42AF-AAF0-FBDE68C4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9691-D49E-4760-892B-19771BA4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60B4-68FF-4825-9224-41045F80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6DA0-3707-46D3-977E-1AF96A1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FA94-B581-4626-8404-1C870962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E4E0-132D-42AE-B039-DFBCAB1D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400A-E66F-4E29-90FC-E84ED31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F8E3-1C4C-4B12-B307-1D3D301C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39C7-C88D-43E9-AEE4-E119A75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8549-34E3-4FAA-BFE9-72D002BD2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9.xml"/><Relationship Id="rId3" Type="http://schemas.openxmlformats.org/officeDocument/2006/relationships/slide" Target="slide27.xml"/><Relationship Id="rId4" Type="http://schemas.openxmlformats.org/officeDocument/2006/relationships/slide" Target="slide11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50920" y="1828800"/>
            <a:ext cx="6940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sc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l sistema integrato istruzione - Form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iur_colorato_trasparente_piccolo"/>
          <p:cNvPicPr/>
          <p:nvPr/>
        </p:nvPicPr>
        <p:blipFill>
          <a:blip r:embed="rId2"/>
          <a:stretch/>
        </p:blipFill>
        <p:spPr>
          <a:xfrm>
            <a:off x="3960720" y="0"/>
            <a:ext cx="981000" cy="806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355680" y="812880"/>
            <a:ext cx="854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Monotype Corsiva"/>
              </a:rPr>
              <a:t>Ministero dell’Istruzione, dell’Università e della Rice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Monotype Corsiva"/>
              </a:rPr>
              <a:t>Ufficio Scolastico Regionale per la Tosc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Monotype Corsiva"/>
              </a:rPr>
              <a:t>Direzione Generale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5F7E-04B9-4862-B8C7-EB90C1533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8166240" y="0"/>
            <a:ext cx="977760" cy="1009800"/>
            <a:chOff x="8166240" y="0"/>
            <a:chExt cx="977760" cy="1009800"/>
          </a:xfrm>
        </p:grpSpPr>
        <p:pic>
          <p:nvPicPr>
            <p:cNvPr id="11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28960" y="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9"/>
            <p:cNvSpPr/>
            <p:nvPr/>
          </p:nvSpPr>
          <p:spPr>
            <a:xfrm>
              <a:off x="8166240" y="47016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2"/>
          <p:cNvGrpSpPr/>
          <p:nvPr/>
        </p:nvGrpSpPr>
        <p:grpSpPr>
          <a:xfrm>
            <a:off x="2381400" y="836640"/>
            <a:ext cx="6656040" cy="6021360"/>
            <a:chOff x="2381400" y="836640"/>
            <a:chExt cx="6656040" cy="6021360"/>
          </a:xfrm>
        </p:grpSpPr>
        <p:sp>
          <p:nvSpPr>
            <p:cNvPr id="115" name="Rectangle 16"/>
            <p:cNvSpPr/>
            <p:nvPr/>
          </p:nvSpPr>
          <p:spPr>
            <a:xfrm>
              <a:off x="2411640" y="6318360"/>
              <a:ext cx="2952720" cy="5396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rebuchet MS"/>
                  <a:ea typeface="Arial Unicode MS"/>
                </a:rPr>
                <a:t>Asilo nid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rebuchet MS"/>
                  <a:ea typeface="Arial Unicode MS"/>
                </a:rPr>
                <a:t>0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2381400" y="5697360"/>
              <a:ext cx="2952720" cy="540000"/>
            </a:xfrm>
            <a:prstGeom prst="rect">
              <a:avLst/>
            </a:prstGeom>
            <a:solidFill>
              <a:srgbClr val="99cc00">
                <a:alpha val="38000"/>
              </a:srgbClr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6600"/>
                  </a:solidFill>
                  <a:latin typeface="Trebuchet MS"/>
                  <a:ea typeface="Arial Unicode MS"/>
                </a:rPr>
                <a:t>Scuola dell'infanz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336600"/>
                  </a:solidFill>
                  <a:latin typeface="Trebuchet MS"/>
                  <a:ea typeface="Arial Unicode MS"/>
                </a:rPr>
                <a:t>3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64"/>
            <p:cNvGrpSpPr/>
            <p:nvPr/>
          </p:nvGrpSpPr>
          <p:grpSpPr>
            <a:xfrm>
              <a:off x="2416320" y="3860640"/>
              <a:ext cx="2881440" cy="1800360"/>
              <a:chOff x="2416320" y="3860640"/>
              <a:chExt cx="2881440" cy="1800360"/>
            </a:xfrm>
          </p:grpSpPr>
          <p:sp>
            <p:nvSpPr>
              <p:cNvPr id="118" name="Rectangle 20"/>
              <p:cNvSpPr/>
              <p:nvPr/>
            </p:nvSpPr>
            <p:spPr>
              <a:xfrm>
                <a:off x="2416320" y="3860640"/>
                <a:ext cx="2519280" cy="1800360"/>
              </a:xfrm>
              <a:prstGeom prst="rect">
                <a:avLst/>
              </a:prstGeom>
              <a:solidFill>
                <a:srgbClr val="e6e6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80"/>
                    </a:solidFill>
                    <a:latin typeface="Trebuchet MS"/>
                    <a:ea typeface="Arial Unicode MS"/>
                  </a:rPr>
                  <a:t>Scuola primar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80"/>
                    </a:solidFill>
                    <a:latin typeface="Trebuchet MS"/>
                    <a:ea typeface="Arial Unicode MS"/>
                  </a:rPr>
                  <a:t>6-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52"/>
              <p:cNvGrpSpPr/>
              <p:nvPr/>
            </p:nvGrpSpPr>
            <p:grpSpPr>
              <a:xfrm>
                <a:off x="4937400" y="3860640"/>
                <a:ext cx="360360" cy="1800360"/>
                <a:chOff x="4937400" y="3860640"/>
                <a:chExt cx="360360" cy="1800360"/>
              </a:xfrm>
            </p:grpSpPr>
            <p:sp>
              <p:nvSpPr>
                <p:cNvPr id="120" name="Rectangle 25"/>
                <p:cNvSpPr/>
                <p:nvPr/>
              </p:nvSpPr>
              <p:spPr>
                <a:xfrm>
                  <a:off x="4937400" y="530064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6"/>
                <p:cNvSpPr/>
                <p:nvPr/>
              </p:nvSpPr>
              <p:spPr>
                <a:xfrm>
                  <a:off x="4937400" y="494028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7"/>
                <p:cNvSpPr/>
                <p:nvPr/>
              </p:nvSpPr>
              <p:spPr>
                <a:xfrm>
                  <a:off x="4937400" y="457992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8"/>
                <p:cNvSpPr/>
                <p:nvPr/>
              </p:nvSpPr>
              <p:spPr>
                <a:xfrm>
                  <a:off x="4937400" y="422100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9"/>
                <p:cNvSpPr/>
                <p:nvPr/>
              </p:nvSpPr>
              <p:spPr>
                <a:xfrm>
                  <a:off x="4937400" y="386064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61"/>
            <p:cNvGrpSpPr/>
            <p:nvPr/>
          </p:nvGrpSpPr>
          <p:grpSpPr>
            <a:xfrm>
              <a:off x="2416320" y="2708280"/>
              <a:ext cx="2881440" cy="1079280"/>
              <a:chOff x="2416320" y="2708280"/>
              <a:chExt cx="2881440" cy="1079280"/>
            </a:xfrm>
          </p:grpSpPr>
          <p:sp>
            <p:nvSpPr>
              <p:cNvPr id="126" name="Rectangle 18"/>
              <p:cNvSpPr/>
              <p:nvPr/>
            </p:nvSpPr>
            <p:spPr>
              <a:xfrm>
                <a:off x="2416320" y="2708280"/>
                <a:ext cx="2519280" cy="1079280"/>
              </a:xfrm>
              <a:prstGeom prst="rect">
                <a:avLst/>
              </a:prstGeom>
              <a:solidFill>
                <a:srgbClr val="e6e6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80"/>
                    </a:solidFill>
                    <a:latin typeface="Trebuchet MS"/>
                    <a:ea typeface="Arial Unicode MS"/>
                  </a:rPr>
                  <a:t>Scuola secondaria I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80"/>
                    </a:solidFill>
                    <a:latin typeface="Trebuchet MS"/>
                    <a:ea typeface="Arial Unicode MS"/>
                  </a:rPr>
                  <a:t>11-1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51"/>
              <p:cNvGrpSpPr/>
              <p:nvPr/>
            </p:nvGrpSpPr>
            <p:grpSpPr>
              <a:xfrm>
                <a:off x="4937400" y="2708280"/>
                <a:ext cx="360360" cy="1079280"/>
                <a:chOff x="4937400" y="2708280"/>
                <a:chExt cx="360360" cy="1079280"/>
              </a:xfrm>
            </p:grpSpPr>
            <p:sp>
              <p:nvSpPr>
                <p:cNvPr id="128" name="Rectangle 30"/>
                <p:cNvSpPr/>
                <p:nvPr/>
              </p:nvSpPr>
              <p:spPr>
                <a:xfrm>
                  <a:off x="4937400" y="342720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1"/>
                <p:cNvSpPr/>
                <p:nvPr/>
              </p:nvSpPr>
              <p:spPr>
                <a:xfrm>
                  <a:off x="4937400" y="306864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32"/>
                <p:cNvSpPr/>
                <p:nvPr/>
              </p:nvSpPr>
              <p:spPr>
                <a:xfrm>
                  <a:off x="4937400" y="270828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" name="Group 60"/>
            <p:cNvGrpSpPr/>
            <p:nvPr/>
          </p:nvGrpSpPr>
          <p:grpSpPr>
            <a:xfrm>
              <a:off x="2416320" y="836640"/>
              <a:ext cx="2881440" cy="1800000"/>
              <a:chOff x="2416320" y="836640"/>
              <a:chExt cx="2881440" cy="1800000"/>
            </a:xfrm>
          </p:grpSpPr>
          <p:sp>
            <p:nvSpPr>
              <p:cNvPr id="132" name="Rectangle 19"/>
              <p:cNvSpPr/>
              <p:nvPr/>
            </p:nvSpPr>
            <p:spPr>
              <a:xfrm>
                <a:off x="2416320" y="836640"/>
                <a:ext cx="2519280" cy="1800000"/>
              </a:xfrm>
              <a:prstGeom prst="rect">
                <a:avLst/>
              </a:prstGeom>
              <a:solidFill>
                <a:srgbClr val="e6e6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80"/>
                    </a:solidFill>
                    <a:latin typeface="Trebuchet MS"/>
                    <a:ea typeface="Arial Unicode MS"/>
                  </a:rPr>
                  <a:t>Scuola secondaria II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80"/>
                    </a:solidFill>
                    <a:latin typeface="Trebuchet MS"/>
                    <a:ea typeface="Arial Unicode MS"/>
                  </a:rPr>
                  <a:t>14-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1600" spc="-1" strike="noStrike" u="sng">
                    <a:solidFill>
                      <a:srgbClr val="666699"/>
                    </a:solidFill>
                    <a:uFillTx/>
                    <a:latin typeface="Trebuchet MS"/>
                    <a:ea typeface="Arial Unicode MS"/>
                    <a:hlinkClick r:id="rId2" action="ppaction://hlinksldjump"/>
                  </a:rPr>
                  <a:t>Istituti Professional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1600" spc="-1" strike="noStrike" u="sng">
                    <a:solidFill>
                      <a:srgbClr val="666699"/>
                    </a:solidFill>
                    <a:uFillTx/>
                    <a:latin typeface="Trebuchet MS"/>
                    <a:ea typeface="Arial Unicode MS"/>
                    <a:hlinkClick r:id="rId3" action="ppaction://hlinksldjump"/>
                  </a:rPr>
                  <a:t>Istituti Tecnic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1600" spc="-1" strike="noStrike" u="sng">
                    <a:solidFill>
                      <a:srgbClr val="666699"/>
                    </a:solidFill>
                    <a:uFillTx/>
                    <a:latin typeface="Trebuchet MS"/>
                    <a:ea typeface="Arial Unicode MS"/>
                    <a:hlinkClick r:id="rId4" action="ppaction://hlinksldjump"/>
                  </a:rPr>
                  <a:t>Lice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rebuchet MS"/>
                    <a:ea typeface="Arial Unicode MS"/>
                  </a:rPr>
                  <a:t>(Indirizzi attivati 58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50"/>
              <p:cNvGrpSpPr/>
              <p:nvPr/>
            </p:nvGrpSpPr>
            <p:grpSpPr>
              <a:xfrm>
                <a:off x="4937400" y="836640"/>
                <a:ext cx="360360" cy="1800000"/>
                <a:chOff x="4937400" y="836640"/>
                <a:chExt cx="360360" cy="1800000"/>
              </a:xfrm>
            </p:grpSpPr>
            <p:sp>
              <p:nvSpPr>
                <p:cNvPr id="134" name="Rectangle 33"/>
                <p:cNvSpPr/>
                <p:nvPr/>
              </p:nvSpPr>
              <p:spPr>
                <a:xfrm>
                  <a:off x="4937400" y="227628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34"/>
                <p:cNvSpPr/>
                <p:nvPr/>
              </p:nvSpPr>
              <p:spPr>
                <a:xfrm>
                  <a:off x="4937400" y="191772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35"/>
                <p:cNvSpPr/>
                <p:nvPr/>
              </p:nvSpPr>
              <p:spPr>
                <a:xfrm>
                  <a:off x="4937400" y="155736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36"/>
                <p:cNvSpPr/>
                <p:nvPr/>
              </p:nvSpPr>
              <p:spPr>
                <a:xfrm>
                  <a:off x="4937400" y="119700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37"/>
                <p:cNvSpPr/>
                <p:nvPr/>
              </p:nvSpPr>
              <p:spPr>
                <a:xfrm>
                  <a:off x="4937400" y="836640"/>
                  <a:ext cx="360360" cy="360360"/>
                </a:xfrm>
                <a:prstGeom prst="rect">
                  <a:avLst/>
                </a:prstGeom>
                <a:solidFill>
                  <a:srgbClr val="1c82b9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rebuchet MS"/>
                      <a:ea typeface="Arial Unicode MS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71"/>
            <p:cNvGrpSpPr/>
            <p:nvPr/>
          </p:nvGrpSpPr>
          <p:grpSpPr>
            <a:xfrm>
              <a:off x="6444000" y="4653000"/>
              <a:ext cx="2593440" cy="1603080"/>
              <a:chOff x="6444000" y="4653000"/>
              <a:chExt cx="2593440" cy="1603080"/>
            </a:xfrm>
          </p:grpSpPr>
          <p:grpSp>
            <p:nvGrpSpPr>
              <p:cNvPr id="140" name="Group 54"/>
              <p:cNvGrpSpPr/>
              <p:nvPr/>
            </p:nvGrpSpPr>
            <p:grpSpPr>
              <a:xfrm>
                <a:off x="6444000" y="4653000"/>
                <a:ext cx="2233080" cy="348840"/>
                <a:chOff x="6444000" y="4653000"/>
                <a:chExt cx="2233080" cy="348840"/>
              </a:xfrm>
            </p:grpSpPr>
            <p:sp>
              <p:nvSpPr>
                <p:cNvPr id="141" name="Rectangle 40"/>
                <p:cNvSpPr/>
                <p:nvPr/>
              </p:nvSpPr>
              <p:spPr>
                <a:xfrm>
                  <a:off x="6444000" y="4653000"/>
                  <a:ext cx="360000" cy="288720"/>
                </a:xfrm>
                <a:prstGeom prst="rect">
                  <a:avLst/>
                </a:prstGeom>
                <a:solidFill>
                  <a:srgbClr val="e6e6ff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41"/>
                <p:cNvSpPr/>
                <p:nvPr/>
              </p:nvSpPr>
              <p:spPr>
                <a:xfrm>
                  <a:off x="6877080" y="4653000"/>
                  <a:ext cx="18000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80"/>
                      </a:solidFill>
                      <a:latin typeface="Arial"/>
                      <a:ea typeface="Arial Unicode MS"/>
                    </a:rPr>
                    <a:t>Sistema stata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56"/>
              <p:cNvGrpSpPr/>
              <p:nvPr/>
            </p:nvGrpSpPr>
            <p:grpSpPr>
              <a:xfrm>
                <a:off x="6444000" y="5457960"/>
                <a:ext cx="2593440" cy="348840"/>
                <a:chOff x="6444000" y="5457960"/>
                <a:chExt cx="2593440" cy="348840"/>
              </a:xfrm>
            </p:grpSpPr>
            <p:sp>
              <p:nvSpPr>
                <p:cNvPr id="144" name="Rectangle 39"/>
                <p:cNvSpPr/>
                <p:nvPr/>
              </p:nvSpPr>
              <p:spPr>
                <a:xfrm>
                  <a:off x="6444000" y="5518080"/>
                  <a:ext cx="360000" cy="287280"/>
                </a:xfrm>
                <a:prstGeom prst="rect">
                  <a:avLst/>
                </a:prstGeom>
                <a:noFill/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43"/>
                <p:cNvSpPr/>
                <p:nvPr/>
              </p:nvSpPr>
              <p:spPr>
                <a:xfrm>
                  <a:off x="6877080" y="5457960"/>
                  <a:ext cx="216036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ff0000"/>
                      </a:solidFill>
                      <a:latin typeface="Arial"/>
                      <a:ea typeface="Arial Unicode MS"/>
                    </a:rPr>
                    <a:t>Sistema regiona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55"/>
              <p:cNvGrpSpPr/>
              <p:nvPr/>
            </p:nvGrpSpPr>
            <p:grpSpPr>
              <a:xfrm>
                <a:off x="6444000" y="5013360"/>
                <a:ext cx="2484000" cy="379080"/>
                <a:chOff x="6444000" y="5013360"/>
                <a:chExt cx="2484000" cy="379080"/>
              </a:xfrm>
            </p:grpSpPr>
            <p:sp>
              <p:nvSpPr>
                <p:cNvPr id="147" name="Rectangle 42"/>
                <p:cNvSpPr/>
                <p:nvPr/>
              </p:nvSpPr>
              <p:spPr>
                <a:xfrm>
                  <a:off x="6847920" y="5013360"/>
                  <a:ext cx="208008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800080"/>
                      </a:solidFill>
                      <a:latin typeface="Arial"/>
                      <a:ea typeface="Arial Unicode MS"/>
                    </a:rPr>
                    <a:t>Sistema integ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45"/>
                <p:cNvSpPr/>
                <p:nvPr/>
              </p:nvSpPr>
              <p:spPr>
                <a:xfrm>
                  <a:off x="6444000" y="5084640"/>
                  <a:ext cx="335880" cy="287640"/>
                </a:xfrm>
                <a:prstGeom prst="rect">
                  <a:avLst/>
                </a:prstGeom>
                <a:solidFill>
                  <a:srgbClr val="944794">
                    <a:alpha val="30000"/>
                  </a:srgbClr>
                </a:solidFill>
                <a:ln w="93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57"/>
              <p:cNvGrpSpPr/>
              <p:nvPr/>
            </p:nvGrpSpPr>
            <p:grpSpPr>
              <a:xfrm>
                <a:off x="6444000" y="5877000"/>
                <a:ext cx="2050560" cy="379080"/>
                <a:chOff x="6444000" y="5877000"/>
                <a:chExt cx="2050560" cy="379080"/>
              </a:xfrm>
            </p:grpSpPr>
            <p:sp>
              <p:nvSpPr>
                <p:cNvPr id="150" name="Rectangle 46"/>
                <p:cNvSpPr/>
                <p:nvPr/>
              </p:nvSpPr>
              <p:spPr>
                <a:xfrm>
                  <a:off x="6444000" y="5948280"/>
                  <a:ext cx="360360" cy="287280"/>
                </a:xfrm>
                <a:prstGeom prst="rect">
                  <a:avLst/>
                </a:prstGeom>
                <a:solidFill>
                  <a:srgbClr val="99cc00">
                    <a:alpha val="38000"/>
                  </a:srgbClr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4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47"/>
                <p:cNvSpPr/>
                <p:nvPr/>
              </p:nvSpPr>
              <p:spPr>
                <a:xfrm>
                  <a:off x="6879600" y="5877000"/>
                  <a:ext cx="16149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6600"/>
                      </a:solidFill>
                      <a:latin typeface="Arial"/>
                      <a:ea typeface="Arial Unicode MS"/>
                    </a:rPr>
                    <a:t>Sistema mist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2" name="Text Box 53"/>
          <p:cNvSpPr/>
          <p:nvPr/>
        </p:nvSpPr>
        <p:spPr>
          <a:xfrm>
            <a:off x="324000" y="1484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3"/>
          <p:cNvGrpSpPr/>
          <p:nvPr/>
        </p:nvGrpSpPr>
        <p:grpSpPr>
          <a:xfrm>
            <a:off x="5364000" y="1916280"/>
            <a:ext cx="865080" cy="3889080"/>
            <a:chOff x="5364000" y="1916280"/>
            <a:chExt cx="865080" cy="3889080"/>
          </a:xfrm>
        </p:grpSpPr>
        <p:sp>
          <p:nvSpPr>
            <p:cNvPr id="154" name="AutoShape 58"/>
            <p:cNvSpPr/>
            <p:nvPr/>
          </p:nvSpPr>
          <p:spPr>
            <a:xfrm>
              <a:off x="5364000" y="1916280"/>
              <a:ext cx="431640" cy="37447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97560 h 3744720"/>
                <a:gd name="textAreaBottom" fmla="*/ 3647160 h 37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9"/>
            <p:cNvSpPr/>
            <p:nvPr/>
          </p:nvSpPr>
          <p:spPr>
            <a:xfrm>
              <a:off x="5868720" y="1916280"/>
              <a:ext cx="360360" cy="3889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76"/>
          <p:cNvGrpSpPr/>
          <p:nvPr/>
        </p:nvGrpSpPr>
        <p:grpSpPr>
          <a:xfrm>
            <a:off x="2411280" y="333360"/>
            <a:ext cx="5108760" cy="1312920"/>
            <a:chOff x="2411280" y="333360"/>
            <a:chExt cx="5108760" cy="1312920"/>
          </a:xfrm>
        </p:grpSpPr>
        <p:sp>
          <p:nvSpPr>
            <p:cNvPr id="157" name="Rectangle 63"/>
            <p:cNvSpPr/>
            <p:nvPr/>
          </p:nvSpPr>
          <p:spPr>
            <a:xfrm>
              <a:off x="2411280" y="333360"/>
              <a:ext cx="2880000" cy="3603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Universit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75"/>
            <p:cNvGrpSpPr/>
            <p:nvPr/>
          </p:nvGrpSpPr>
          <p:grpSpPr>
            <a:xfrm>
              <a:off x="5722920" y="449280"/>
              <a:ext cx="1797120" cy="1197000"/>
              <a:chOff x="5722920" y="449280"/>
              <a:chExt cx="1797120" cy="1197000"/>
            </a:xfrm>
          </p:grpSpPr>
          <p:sp>
            <p:nvSpPr>
              <p:cNvPr id="159" name="AutoShape 66"/>
              <p:cNvSpPr/>
              <p:nvPr/>
            </p:nvSpPr>
            <p:spPr>
              <a:xfrm>
                <a:off x="5796000" y="1244520"/>
                <a:ext cx="1724040" cy="401760"/>
              </a:xfrm>
              <a:prstGeom prst="borderCallout2">
                <a:avLst>
                  <a:gd name="adj1" fmla="val 18750"/>
                  <a:gd name="adj2" fmla="val -8333"/>
                  <a:gd name="adj3" fmla="val 28458"/>
                  <a:gd name="adj4" fmla="val -12337"/>
                  <a:gd name="adj5" fmla="val -19365"/>
                  <a:gd name="adj6" fmla="val -29467"/>
                </a:avLst>
              </a:prstGeom>
              <a:solidFill>
                <a:srgbClr val="e5c9e5"/>
              </a:solidFill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FTS – 1 an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67"/>
              <p:cNvSpPr/>
              <p:nvPr/>
            </p:nvSpPr>
            <p:spPr>
              <a:xfrm>
                <a:off x="5722920" y="449280"/>
                <a:ext cx="1724040" cy="401760"/>
              </a:xfrm>
              <a:prstGeom prst="borderCallout2">
                <a:avLst>
                  <a:gd name="adj1" fmla="val 18750"/>
                  <a:gd name="adj2" fmla="val -8333"/>
                  <a:gd name="adj3" fmla="val 28458"/>
                  <a:gd name="adj4" fmla="val -4421"/>
                  <a:gd name="adj5" fmla="val 73912"/>
                  <a:gd name="adj6" fmla="val -31125"/>
                </a:avLst>
              </a:prstGeom>
              <a:solidFill>
                <a:srgbClr val="e6e6ff"/>
              </a:solidFill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TS – 2 ann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77"/>
          <p:cNvGrpSpPr/>
          <p:nvPr/>
        </p:nvGrpSpPr>
        <p:grpSpPr>
          <a:xfrm>
            <a:off x="179280" y="1268280"/>
            <a:ext cx="1797120" cy="978120"/>
            <a:chOff x="179280" y="1268280"/>
            <a:chExt cx="1797120" cy="978120"/>
          </a:xfrm>
        </p:grpSpPr>
        <p:sp>
          <p:nvSpPr>
            <p:cNvPr id="162" name="AutoShape 69"/>
            <p:cNvSpPr/>
            <p:nvPr/>
          </p:nvSpPr>
          <p:spPr>
            <a:xfrm>
              <a:off x="252360" y="1268280"/>
              <a:ext cx="1724040" cy="401760"/>
            </a:xfrm>
            <a:prstGeom prst="borderCallout2">
              <a:avLst>
                <a:gd name="adj1" fmla="val 18750"/>
                <a:gd name="adj2" fmla="val -8333"/>
                <a:gd name="adj3" fmla="val 28458"/>
                <a:gd name="adj4" fmla="val 122374"/>
                <a:gd name="adj5" fmla="val 81421"/>
                <a:gd name="adj6" fmla="val 144013"/>
              </a:avLst>
            </a:prstGeom>
            <a:solidFill>
              <a:srgbClr val="e5c9e5"/>
            </a:solidFill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666699"/>
                  </a:solidFill>
                  <a:uFillTx/>
                  <a:latin typeface="Arial"/>
                  <a:hlinkClick r:id="rId5" action="ppaction://hlinksldjump"/>
                </a:rPr>
                <a:t>Percorsi </a:t>
              </a:r>
              <a:r>
                <a:rPr b="0" lang="it-IT" sz="1800" spc="-1" strike="noStrike" u="sng">
                  <a:solidFill>
                    <a:srgbClr val="666699"/>
                  </a:solidFill>
                  <a:uFillTx/>
                  <a:latin typeface="Arial"/>
                  <a:hlinkClick r:id="rId6" action="ppaction://hlinksldjump"/>
                </a:rPr>
                <a:t>Ie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70"/>
            <p:cNvSpPr/>
            <p:nvPr/>
          </p:nvSpPr>
          <p:spPr>
            <a:xfrm>
              <a:off x="179280" y="1844640"/>
              <a:ext cx="1724040" cy="401760"/>
            </a:xfrm>
            <a:prstGeom prst="borderCallout2">
              <a:avLst>
                <a:gd name="adj1" fmla="val 18750"/>
                <a:gd name="adj2" fmla="val -8333"/>
                <a:gd name="adj3" fmla="val 28458"/>
                <a:gd name="adj4" fmla="val 106722"/>
                <a:gd name="adj5" fmla="val 32412"/>
                <a:gd name="adj6" fmla="val 128083"/>
              </a:avLst>
            </a:prstGeom>
            <a:noFill/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666699"/>
                  </a:solidFill>
                  <a:uFillTx/>
                  <a:latin typeface="Arial"/>
                  <a:hlinkClick r:id="rId7" action="ppaction://hlinksldjump"/>
                </a:rPr>
                <a:t>Form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Segnaposto piè di pagina 1"/>
          <p:cNvSpPr/>
          <p:nvPr/>
        </p:nvSpPr>
        <p:spPr>
          <a:xfrm>
            <a:off x="7920" y="64008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2A32-3C3F-486E-A527-03E243B1148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16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0" name=""/>
          <p:cNvGraphicFramePr/>
          <p:nvPr/>
        </p:nvGraphicFramePr>
        <p:xfrm>
          <a:off x="539640" y="1773360"/>
          <a:ext cx="8353440" cy="4319640"/>
        </p:xfrm>
        <a:graphic>
          <a:graphicData uri="http://schemas.openxmlformats.org/drawingml/2006/table">
            <a:tbl>
              <a:tblPr/>
              <a:tblGrid>
                <a:gridCol w="1843200"/>
                <a:gridCol w="749160"/>
                <a:gridCol w="878040"/>
                <a:gridCol w="814320"/>
                <a:gridCol w="814320"/>
                <a:gridCol w="812880"/>
                <a:gridCol w="814320"/>
                <a:gridCol w="812880"/>
                <a:gridCol w="814320"/>
              </a:tblGrid>
              <a:tr h="32220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rizzi attiv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t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t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t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t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n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04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o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c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sto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04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71" name="CasellaDiTesto 2"/>
          <p:cNvSpPr/>
          <p:nvPr/>
        </p:nvSpPr>
        <p:spPr>
          <a:xfrm>
            <a:off x="539640" y="728640"/>
            <a:ext cx="7488360" cy="8254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situazione del primo biennio del secondo ciclo in Tosc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egnaposto piè di pa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-4680" y="1159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4" name="Segnaposto piè di pagina 1"/>
          <p:cNvSpPr/>
          <p:nvPr/>
        </p:nvSpPr>
        <p:spPr>
          <a:xfrm>
            <a:off x="1116000" y="6742080"/>
            <a:ext cx="295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Segnaposto piè di pagina 1"/>
          <p:cNvSpPr/>
          <p:nvPr/>
        </p:nvSpPr>
        <p:spPr>
          <a:xfrm>
            <a:off x="-304920" y="6308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4"/>
          <p:cNvSpPr/>
          <p:nvPr/>
        </p:nvSpPr>
        <p:spPr>
          <a:xfrm>
            <a:off x="187200" y="1332000"/>
            <a:ext cx="86662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Calibri"/>
              </a:rPr>
              <a:t>Arti grafiche                                         Architettura e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Calibri"/>
              </a:rPr>
              <a:t>Audiovisivo e multimediale              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Calibri"/>
              </a:rPr>
              <a:t>Grafica                                                 Scen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Calibri"/>
              </a:rPr>
              <a:t>opzione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 Scienze applica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29)</a:t>
            </a:r>
            <a:br>
              <a:rPr sz="3200"/>
            </a:b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Calibri"/>
              </a:rPr>
              <a:t>opzione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 economico-social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(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9FFE-669F-42B3-8580-3EDA5E2F3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68360" y="404640"/>
            <a:ext cx="7227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 Lic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Fra parentesi il numero degli indirizzi attivati nelle scuole toscan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18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sellaDiTesto 6"/>
          <p:cNvSpPr/>
          <p:nvPr/>
        </p:nvSpPr>
        <p:spPr>
          <a:xfrm>
            <a:off x="384120" y="59364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Carico orario per gli stu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0" y="1335240"/>
            <a:ext cx="914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en-US" sz="3200" spc="-1" strike="noStrike" u="sng">
                <a:solidFill>
                  <a:srgbClr val="ef033b"/>
                </a:solidFill>
                <a:uFillTx/>
                <a:latin typeface="Arial"/>
                <a:ea typeface="Times New Roman"/>
              </a:rPr>
              <a:t>artistic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4 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nel bienn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5 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nel trienn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en-US" sz="3200" spc="-1" strike="noStrike" u="sng">
                <a:solidFill>
                  <a:srgbClr val="ef033b"/>
                </a:solidFill>
                <a:uFillTx/>
                <a:latin typeface="Arial"/>
                <a:ea typeface="Times New Roman"/>
              </a:rPr>
              <a:t>musicale e coreutico</a:t>
            </a:r>
            <a:br>
              <a:rPr sz="32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(dalla prima alla quinta cla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2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lassico</a:t>
            </a:r>
            <a:br>
              <a:rPr sz="3200"/>
            </a:br>
            <a:r>
              <a:rPr b="1" lang="en-US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27 ore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nel biennio, </a:t>
            </a:r>
            <a:r>
              <a:rPr b="1" lang="en-US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1 ore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nel trien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i </a:t>
            </a:r>
            <a:r>
              <a:rPr b="1" lang="en-US" sz="2800" spc="-1" strike="noStrike" u="sng">
                <a:solidFill>
                  <a:srgbClr val="ef033b"/>
                </a:solidFill>
                <a:uFillTx/>
                <a:latin typeface="Arial"/>
              </a:rPr>
              <a:t>scientifico, linguistico, scienze um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27 ore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nel biennio, </a:t>
            </a:r>
            <a:r>
              <a:rPr b="1" lang="en-US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0 ore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nel triennio</a:t>
            </a:r>
            <a:r>
              <a:rPr b="1" lang="en-US" sz="1800" spc="-1" strike="noStrike">
                <a:solidFill>
                  <a:srgbClr val="ef033b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18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8"/>
          <p:cNvSpPr/>
          <p:nvPr/>
        </p:nvSpPr>
        <p:spPr>
          <a:xfrm>
            <a:off x="388800" y="1101600"/>
            <a:ext cx="789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 Licei si diversificano in rapporto agli approfondimenti specifici che rientrano all’interno d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un’unica cultura liceal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 quadri orari dei singoli percorsi liceali presentano 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aterie obbligatorie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per tutti gli studenti. Ciascuna istituzione scolastica può utilizzar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la quota di autonomia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per rafforzare alcune materie o per inserirne di ulteriori scelte dal Reper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L’offerta formativa può essere ulteriormente arricchita attraverso gli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segnamenti facoltativi aggiuntivi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ttivati dalle Istituzioni scolas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5F77-1593-4BA0-9C32-EBD383A8B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19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189000" y="1274040"/>
            <a:ext cx="8594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Calibri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800" spc="-1" strike="noStrike">
                <a:solidFill>
                  <a:srgbClr val="ef033b"/>
                </a:solidFill>
                <a:latin typeface="Arial"/>
                <a:ea typeface="Calibri"/>
              </a:rPr>
              <a:t>tutti i Lice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Calibri"/>
              </a:rPr>
              <a:t>viene studiata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Calibri"/>
              </a:rPr>
              <a:t>obbligatoriamente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almeno una lingua stran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Nel Liceo linguistico si studiano tre lingue stran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È attivabile una seconda lingua straniera in tutti i licei usufruendo  della quota di 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sellaDiTesto 6"/>
          <p:cNvSpPr/>
          <p:nvPr/>
        </p:nvSpPr>
        <p:spPr>
          <a:xfrm>
            <a:off x="417600" y="466560"/>
            <a:ext cx="74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Calibri"/>
              </a:rPr>
              <a:t>Lingue strani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FEC6-CE62-47D0-9C05-6A007BFE2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20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09760" y="3933720"/>
            <a:ext cx="795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utti i percorsi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è previsto che, nel quinto anno di corso, una disciplina non linguistica sia studiata in lingua strani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e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alibri"/>
              </a:rPr>
              <a:t>Liceo linguistico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 primo anno del secondo biennio è impartito l’insegnamento in lingua straniera di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ciplina non lingu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Obbligo di istr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e"/>
                </a:solidFill>
                <a:latin typeface="Arial"/>
                <a:ea typeface="Arial"/>
              </a:rPr>
              <a:t>Il primo biennio di ciascun percorso è finalizzato a una prima acquisizione delle conoscenze, abilità e competenze caratterizzanti le singole articolazioni del sistema liceale e all’assolvimento dell’obbligo di istru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e"/>
                </a:solidFill>
                <a:latin typeface="Arial"/>
                <a:ea typeface="Arial"/>
              </a:rPr>
              <a:t>Ciò anche attraverso la verifica e l’eventuale integrazione delle conoscenze, abilità e competenze raggiunte al termine del primo ciclo di istruzione, attraverso gli strumenti di autonomia didattica previsti dall’articolo 4 del DPR 8 marzo 1999, n. 2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20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cuola, istruzione superiore,</a:t>
            </a:r>
            <a:br>
              <a:rPr sz="3200"/>
            </a:b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mondo del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e"/>
                </a:solidFill>
                <a:latin typeface="Arial"/>
                <a:ea typeface="Arial"/>
              </a:rPr>
              <a:t>Le istituzioni scolastiche stabiliscono, a partire dal secondo biennio, anche d’intesa con le università, le istituzioni dell’alta formazione artistica, musicale e coreutica, gli IFTS e gli ITS modalità per l’approfondimento delle conoscenze, delle abilità e delle competenze richieste per l’accesso ai relativi percorsi o per l’inserimento nel mondo del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e"/>
                </a:solidFill>
                <a:latin typeface="Arial"/>
                <a:ea typeface="Arial"/>
              </a:rPr>
              <a:t>L’approfondimento può essere realizzato anche nell’ambito dei percorsi di alternanza scuola-lavoro di cui al decreto legislativo 15 aprile 2005, n. 77, nonché attraverso l’attivazione di moduli e di iniziative di studio-lavoro per progetti, di esperienze pratiche e di </a:t>
            </a:r>
            <a:r>
              <a:rPr b="0" i="1" lang="en-US" sz="2000" spc="-1" strike="noStrike">
                <a:solidFill>
                  <a:srgbClr val="00005e"/>
                </a:solidFill>
                <a:latin typeface="Arial"/>
                <a:ea typeface="Arial"/>
              </a:rPr>
              <a:t>stage</a:t>
            </a:r>
            <a:r>
              <a:rPr b="0" lang="en-US" sz="2000" spc="-1" strike="noStrike">
                <a:solidFill>
                  <a:srgbClr val="00005e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6B26-299D-4B2F-9797-CB86775B5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21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B309-7485-4CD0-981B-4540C49CB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7956720" y="479520"/>
            <a:ext cx="977760" cy="1009800"/>
            <a:chOff x="7956720" y="479520"/>
            <a:chExt cx="977760" cy="1009800"/>
          </a:xfrm>
        </p:grpSpPr>
        <p:pic>
          <p:nvPicPr>
            <p:cNvPr id="6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19440" y="4795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9"/>
            <p:cNvSpPr/>
            <p:nvPr/>
          </p:nvSpPr>
          <p:spPr>
            <a:xfrm>
              <a:off x="7956720" y="9496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53"/>
          <p:cNvSpPr/>
          <p:nvPr/>
        </p:nvSpPr>
        <p:spPr>
          <a:xfrm>
            <a:off x="324000" y="1484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1"/>
          <p:cNvSpPr/>
          <p:nvPr/>
        </p:nvSpPr>
        <p:spPr>
          <a:xfrm>
            <a:off x="684360" y="1989000"/>
            <a:ext cx="76183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72"/>
                </a:solidFill>
                <a:latin typeface="Arial"/>
              </a:rPr>
              <a:t>"Sempre natura, se fortuna trova</a:t>
            </a:r>
            <a:br>
              <a:rPr sz="3600"/>
            </a:br>
            <a:r>
              <a:rPr b="1" i="1" lang="it-IT" sz="3600" spc="-1" strike="noStrike">
                <a:solidFill>
                  <a:srgbClr val="000072"/>
                </a:solidFill>
                <a:latin typeface="Arial"/>
              </a:rPr>
              <a:t>discorde a sé, com’ogne altra semente</a:t>
            </a:r>
            <a:br>
              <a:rPr sz="3600"/>
            </a:br>
            <a:r>
              <a:rPr b="1" i="1" lang="it-IT" sz="3600" spc="-1" strike="noStrike">
                <a:solidFill>
                  <a:srgbClr val="000072"/>
                </a:solidFill>
                <a:latin typeface="Arial"/>
              </a:rPr>
              <a:t>fuor di sua region, fa mala prova".</a:t>
            </a:r>
            <a:br>
              <a:rPr sz="3600"/>
            </a:br>
            <a:r>
              <a:rPr b="1" i="1" lang="it-IT" sz="3600" spc="-1" strike="noStrike">
                <a:solidFill>
                  <a:srgbClr val="000072"/>
                </a:solidFill>
                <a:latin typeface="Arial"/>
              </a:rPr>
              <a:t>(Paradiso,VIII)</a:t>
            </a:r>
            <a:r>
              <a:rPr b="1" lang="it-IT" sz="3600" spc="-1" strike="noStrike">
                <a:solidFill>
                  <a:srgbClr val="0000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piè di pagina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30120" y="1014480"/>
            <a:ext cx="8521920" cy="57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a riforma persegue una forte rivalutazione dei percorsi dell’istruzione tecnica e professionale in ciò adeguando le due istruzioni alle importanti esigenze della società odie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n particolare gli istituti tecnici e quelli professionali sono caratterizzati da un'area di istruzione generale comune e in distinte aree di indirizzo che possono essere articolate anche con l’utilizzo dell’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tonomia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e dell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lessibilità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, sulla base di un elenco nazionale continuamente aggiornato nel confronto con le Regioni e le Parti sociali, in un numero definito di opzioni legate al mondo del lavoro, delle professioni e del territor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’identità degli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istituti tecnici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è connotata da una solid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se culturale a carattere scientifico e tecnologico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n linea con le indicazioni dell’Unione europe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'identità degli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istituti professionali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è connotata dall'integ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ra una solid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se di istruzione generale e la cultura professionale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he consente agli studenti di sviluppare i saperi e le competenze necessari ad assumere ruoli tecnici operativi nei settori produttivi e di servizio di riferimento, considerati nella loro dimensione siste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7"/>
          <p:cNvGrpSpPr/>
          <p:nvPr/>
        </p:nvGrpSpPr>
        <p:grpSpPr>
          <a:xfrm>
            <a:off x="8166240" y="0"/>
            <a:ext cx="977760" cy="1009800"/>
            <a:chOff x="8166240" y="0"/>
            <a:chExt cx="977760" cy="1009800"/>
          </a:xfrm>
        </p:grpSpPr>
        <p:pic>
          <p:nvPicPr>
            <p:cNvPr id="22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28960" y="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9"/>
            <p:cNvSpPr/>
            <p:nvPr/>
          </p:nvSpPr>
          <p:spPr>
            <a:xfrm>
              <a:off x="8166240" y="47016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CasellaDiTesto 1"/>
          <p:cNvSpPr/>
          <p:nvPr/>
        </p:nvSpPr>
        <p:spPr>
          <a:xfrm>
            <a:off x="593640" y="436680"/>
            <a:ext cx="7554960" cy="4597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’istruzione Tecnica e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egnaposto piè di pagina 2"/>
          <p:cNvSpPr/>
          <p:nvPr/>
        </p:nvSpPr>
        <p:spPr>
          <a:xfrm>
            <a:off x="3143160" y="6369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395280" y="1004760"/>
            <a:ext cx="8136000" cy="5832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p DOMANDA / OFFERTA di diplomati tecnici nel mercato de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11280" y="1628640"/>
            <a:ext cx="7704000" cy="22320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2008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prima della crisi economic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e imprese non trovano oltre 181.000 tecn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OMANDA / OF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GAP 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181.27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26920" y="2421000"/>
            <a:ext cx="1328760" cy="1081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mic Sans MS"/>
              </a:rPr>
              <a:t>DO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mic Sans MS"/>
              </a:rPr>
              <a:t>nel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mic Sans MS"/>
              </a:rPr>
              <a:t>323.4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877080" y="2421000"/>
            <a:ext cx="1297080" cy="1081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OFF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nel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142.2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084720" y="2637000"/>
            <a:ext cx="571680" cy="457200"/>
          </a:xfrm>
          <a:prstGeom prst="rightArrow">
            <a:avLst>
              <a:gd name="adj1" fmla="val 50000"/>
              <a:gd name="adj2" fmla="val 3126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2340000" y="2637000"/>
            <a:ext cx="571320" cy="457200"/>
          </a:xfrm>
          <a:prstGeom prst="leftArrow">
            <a:avLst>
              <a:gd name="adj1" fmla="val 50000"/>
              <a:gd name="adj2" fmla="val 312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11280" y="4149720"/>
            <a:ext cx="7704000" cy="23763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2009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in piena crisi economica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le imprese non trovano oltre 76.000 tecnic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OMANDA / OF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GAP 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76.319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900000" y="5013360"/>
            <a:ext cx="1328760" cy="1081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mic Sans MS"/>
              </a:rPr>
              <a:t>DO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mic Sans MS"/>
              </a:rPr>
              <a:t>nel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mic Sans MS"/>
              </a:rPr>
              <a:t>214.0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2340000" y="5300640"/>
            <a:ext cx="571320" cy="457200"/>
          </a:xfrm>
          <a:prstGeom prst="leftArrow">
            <a:avLst>
              <a:gd name="adj1" fmla="val 50000"/>
              <a:gd name="adj2" fmla="val 312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6084720" y="5229360"/>
            <a:ext cx="571680" cy="457200"/>
          </a:xfrm>
          <a:prstGeom prst="rightArrow">
            <a:avLst>
              <a:gd name="adj1" fmla="val 50000"/>
              <a:gd name="adj2" fmla="val 3126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6877080" y="5013360"/>
            <a:ext cx="1297080" cy="1081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OFF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nel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Comic Sans MS"/>
              </a:rPr>
              <a:t>137.7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630360" y="520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I CONFINDUSTRIA  -  02.12.2009  -  Firen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8042400" y="119160"/>
            <a:ext cx="977760" cy="1010520"/>
            <a:chOff x="8042400" y="119160"/>
            <a:chExt cx="977760" cy="1010520"/>
          </a:xfrm>
        </p:grpSpPr>
        <p:pic>
          <p:nvPicPr>
            <p:cNvPr id="23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05120" y="119160"/>
              <a:ext cx="57492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9"/>
            <p:cNvSpPr/>
            <p:nvPr/>
          </p:nvSpPr>
          <p:spPr>
            <a:xfrm>
              <a:off x="8042400" y="59004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Segnaposto piè di pagina 1"/>
          <p:cNvSpPr/>
          <p:nvPr/>
        </p:nvSpPr>
        <p:spPr>
          <a:xfrm>
            <a:off x="3124080" y="6526080"/>
            <a:ext cx="2895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324000" y="853920"/>
            <a:ext cx="7623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amo quindi, paradossalmente, un Paese in cui i giovani trovano difficilmente lavoro e le aziende trovano difficilmente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n altro dato interessante dello stesso lavoro di Confindustria ci dice che l’Italia è il secondo Paese manifatturiero in Euro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(dopo la Germani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ma l’importanza economica che ha questo ramo dell’imprenditoria è sconosciuto alla gran parte dei citta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9807840" y="50245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7956720" y="115920"/>
            <a:ext cx="977760" cy="1009800"/>
            <a:chOff x="7956720" y="115920"/>
            <a:chExt cx="977760" cy="1009800"/>
          </a:xfrm>
        </p:grpSpPr>
        <p:pic>
          <p:nvPicPr>
            <p:cNvPr id="24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19440" y="1159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7956720" y="5860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81160" y="622440"/>
            <a:ext cx="78134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T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ese fortemente industrializz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plomati tecnici pochi ed in diminu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iversità Scientifiche </a:t>
            </a:r>
            <a:r>
              <a:rPr b="0" i="1" lang="en-US" sz="2400" spc="-1" strike="noStrike">
                <a:solidFill>
                  <a:srgbClr val="000066"/>
                </a:solidFill>
                <a:latin typeface="Arial Narrow"/>
              </a:rPr>
              <a:t>(ad eccezione di Medicina ed Ingegneria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emivu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lti iscritti ai Licei e alle Facoltà a carattere umanistico, psicologico, politico/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ovani in cerca di occupazione ed aziende in cerca di tecnici di medio ed alto live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7956720" y="115920"/>
            <a:ext cx="977760" cy="1009800"/>
            <a:chOff x="7956720" y="115920"/>
            <a:chExt cx="977760" cy="1009800"/>
          </a:xfrm>
        </p:grpSpPr>
        <p:pic>
          <p:nvPicPr>
            <p:cNvPr id="24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19440" y="1159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9"/>
            <p:cNvSpPr/>
            <p:nvPr/>
          </p:nvSpPr>
          <p:spPr>
            <a:xfrm>
              <a:off x="7956720" y="5860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42192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NUOVI MODELLI ORGANIZZATIVI</a:t>
            </a:r>
            <a:br>
              <a:rPr sz="32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Gli istituti tecnici e professionali possono dotarsi, nella loro autonomia, 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24000" y="2286000"/>
          <a:ext cx="8642160" cy="4022640"/>
        </p:xfrm>
        <a:graphic>
          <a:graphicData uri="http://schemas.openxmlformats.org/drawingml/2006/table">
            <a:tbl>
              <a:tblPr/>
              <a:tblGrid>
                <a:gridCol w="3457440"/>
                <a:gridCol w="5184720"/>
              </a:tblGrid>
              <a:tr h="7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ARTIM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l sostegno alla didattica 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alla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rogettazione formativa</a:t>
                      </a:r>
                      <a:r>
                        <a:rPr b="1" lang="en-US" sz="2000" spc="-1" strike="noStrike">
                          <a:solidFill>
                            <a:srgbClr val="c10311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nalizzato a rafforzare il </a:t>
                      </a:r>
                      <a:r>
                        <a:rPr b="1" lang="en-US" sz="20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raccordo sinergico tra gli obiettivi educativi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della scuola, </a:t>
                      </a:r>
                      <a:r>
                        <a:rPr b="1" lang="en-US" sz="20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e esigenze del territorio e i fabbisogni professionali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espressi dal mondo produt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FICIO TEC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ER GLI ISTITUTI DEL SETTORE TECNOLOGI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GLI ISTITUTI PROFESSIONALI SETTORE INDUSTRIA E ARTIGIANA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 il compito d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rganizzare i laboratori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in maniera funzionale, per il loro adeguamento alle innovazioni tecnologiche, alle misure necessarie per la sicurezza delle persone e dell’ambi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AutoShape 19"/>
          <p:cNvSpPr/>
          <p:nvPr/>
        </p:nvSpPr>
        <p:spPr>
          <a:xfrm>
            <a:off x="324000" y="1697040"/>
            <a:ext cx="4319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4810"/>
              <a:gd name="adj5" fmla="val 106250"/>
              <a:gd name="adj6" fmla="val 12837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iornamento costante dei percorsi di studi e delle metod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8128080" y="174600"/>
            <a:ext cx="977760" cy="1009800"/>
            <a:chOff x="8128080" y="174600"/>
            <a:chExt cx="977760" cy="1009800"/>
          </a:xfrm>
        </p:grpSpPr>
        <p:pic>
          <p:nvPicPr>
            <p:cNvPr id="25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90800" y="17460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9"/>
            <p:cNvSpPr/>
            <p:nvPr/>
          </p:nvSpPr>
          <p:spPr>
            <a:xfrm>
              <a:off x="8128080" y="64476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2276640"/>
          <a:ext cx="8136000" cy="3587760"/>
        </p:xfrm>
        <a:graphic>
          <a:graphicData uri="http://schemas.openxmlformats.org/drawingml/2006/table">
            <a:tbl>
              <a:tblPr/>
              <a:tblGrid>
                <a:gridCol w="2663640"/>
                <a:gridCol w="2733840"/>
                <a:gridCol w="27385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 GENER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RI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91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imo bien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60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6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condo biennio e quinto an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5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1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Rettangolo 10"/>
          <p:cNvSpPr/>
          <p:nvPr/>
        </p:nvSpPr>
        <p:spPr>
          <a:xfrm>
            <a:off x="395280" y="5619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A STRUTTURA DEL PERCORSO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QUINQUEN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7"/>
          <p:cNvGrpSpPr/>
          <p:nvPr/>
        </p:nvGrpSpPr>
        <p:grpSpPr>
          <a:xfrm>
            <a:off x="7888320" y="235080"/>
            <a:ext cx="977760" cy="1009800"/>
            <a:chOff x="7888320" y="235080"/>
            <a:chExt cx="977760" cy="1009800"/>
          </a:xfrm>
        </p:grpSpPr>
        <p:pic>
          <p:nvPicPr>
            <p:cNvPr id="26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51040" y="23508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9"/>
            <p:cNvSpPr/>
            <p:nvPr/>
          </p:nvSpPr>
          <p:spPr>
            <a:xfrm>
              <a:off x="7888320" y="70524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479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ATTERISTICHE INNO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1227240"/>
            <a:ext cx="8508960" cy="54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ort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razione tra saperi teorici e saperi operativi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isultati di apprendimento declinati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etenze, abilità e conoscenze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anche con riferimento al Quadro europeo dei titoli e delle qualifich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QF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, per favorire la mobilità delle persone nell’Unione europea (da definire con apposito regolamen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entralità dei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aboratori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age, tirocini e alternanz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scuola-lavoro per apprendere in contesti operati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ossibile collaborazione co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perti esterni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er arricchire l’offerta formativa e sviluppar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etenze special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a scuola toscana e più in generale il sistema scolastico toscano è attento e partecipativo e ha saputo cogliere gli stimoli che vengono dal territorio e dal mondo del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nche il mondo delle imprese è collaborativo con le istituzioni scolastiche, non a caso in Toscana si è registrata la più alta percentuale di istituti che hanno realizzato percorsi di alternanza scuola-lavoro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l 54% a fronte di una media nazionale del 24%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7"/>
          <p:cNvGrpSpPr/>
          <p:nvPr/>
        </p:nvGrpSpPr>
        <p:grpSpPr>
          <a:xfrm>
            <a:off x="7926480" y="254160"/>
            <a:ext cx="977760" cy="1009800"/>
            <a:chOff x="7926480" y="254160"/>
            <a:chExt cx="977760" cy="1009800"/>
          </a:xfrm>
        </p:grpSpPr>
        <p:pic>
          <p:nvPicPr>
            <p:cNvPr id="27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89200" y="25416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9"/>
            <p:cNvSpPr/>
            <p:nvPr/>
          </p:nvSpPr>
          <p:spPr>
            <a:xfrm>
              <a:off x="7926480" y="72432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Segnaposto piè di pagina 1"/>
          <p:cNvSpPr/>
          <p:nvPr/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243000" y="1536840"/>
          <a:ext cx="8713800" cy="5021280"/>
        </p:xfrm>
        <a:graphic>
          <a:graphicData uri="http://schemas.openxmlformats.org/drawingml/2006/table">
            <a:tbl>
              <a:tblPr/>
              <a:tblGrid>
                <a:gridCol w="4138560"/>
                <a:gridCol w="4575240"/>
              </a:tblGrid>
              <a:tr h="50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ECONO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TECNOLO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129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12"/>
                        </a:spcBef>
                        <a:spcAft>
                          <a:spcPts val="312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mministrazione, Finanza e Marketing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9999cc"/>
                        </a:buClr>
                        <a:buSzPct val="80000"/>
                        <a:buFont typeface="Arial"/>
                        <a:buAutoNum type="alphaLcPeriod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elazioni internazionali per il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9999cc"/>
                        </a:buClr>
                        <a:buSzPct val="80000"/>
                        <a:buFont typeface="Arial"/>
                        <a:buAutoNum type="alphaLcPeriod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stemi informativi aziend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urismo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77840" indent="-177840">
                        <a:spcBef>
                          <a:spcPts val="312"/>
                        </a:spcBef>
                        <a:spcAft>
                          <a:spcPts val="312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ccanica, Meccatronica ed Energi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rasporti  e Logistic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ed Elettrotecnic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 e Telecomunicazioni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e Comunicazion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a, Materiali e Biotecnologi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stema Mod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graria, Agroalimentare e Agroindustri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, Ambiente e Territorio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Rectangle 20"/>
          <p:cNvSpPr/>
          <p:nvPr/>
        </p:nvSpPr>
        <p:spPr>
          <a:xfrm>
            <a:off x="250920" y="5191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2 SETTORI - 11 INDIRIZ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Carico orario - 32 ore settima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Fra parentesi il numero degli indirizzi attivati nelle scuole toscan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27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egnaposto piè di pagina 1"/>
          <p:cNvSpPr/>
          <p:nvPr/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7476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TÀ ISTITUTI TEC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21844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afforzare 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ultura scientifica e tecn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ttravers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tangolo 7"/>
          <p:cNvSpPr/>
          <p:nvPr/>
        </p:nvSpPr>
        <p:spPr>
          <a:xfrm>
            <a:off x="42782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952560" y="2637000"/>
          <a:ext cx="7237440" cy="3538440"/>
        </p:xfrm>
        <a:graphic>
          <a:graphicData uri="http://schemas.openxmlformats.org/drawingml/2006/table">
            <a:tbl>
              <a:tblPr/>
              <a:tblGrid>
                <a:gridCol w="1035000"/>
                <a:gridCol w="62024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EMA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IENZE E TECNOLO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INGLESE</a:t>
                      </a:r>
                      <a:br>
                        <a:rPr sz="2800"/>
                      </a:b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con possibilità di introdurre insegnamento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1 disciplina tecnica in lingua ingle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4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28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5"/>
          <p:cNvGrpSpPr/>
          <p:nvPr/>
        </p:nvGrpSpPr>
        <p:grpSpPr>
          <a:xfrm>
            <a:off x="250920" y="1557360"/>
            <a:ext cx="8640360" cy="4392720"/>
            <a:chOff x="250920" y="1557360"/>
            <a:chExt cx="8640360" cy="4392720"/>
          </a:xfrm>
        </p:grpSpPr>
        <p:sp>
          <p:nvSpPr>
            <p:cNvPr id="289" name="Rectangle 6"/>
            <p:cNvSpPr/>
            <p:nvPr/>
          </p:nvSpPr>
          <p:spPr>
            <a:xfrm>
              <a:off x="250920" y="1557360"/>
              <a:ext cx="4319640" cy="765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SETTORE DEI SERVIZ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7"/>
            <p:cNvSpPr/>
            <p:nvPr/>
          </p:nvSpPr>
          <p:spPr>
            <a:xfrm>
              <a:off x="4570560" y="1557360"/>
              <a:ext cx="4319280" cy="765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SETTORE INDUSTRIA E ARTIGIA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8"/>
            <p:cNvSpPr/>
            <p:nvPr/>
          </p:nvSpPr>
          <p:spPr>
            <a:xfrm>
              <a:off x="250920" y="2321280"/>
              <a:ext cx="4319640" cy="36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1720" indent="-531720">
                <a:spcBef>
                  <a:spcPts val="561"/>
                </a:spcBef>
                <a:spcAft>
                  <a:spcPts val="561"/>
                </a:spcAft>
                <a:buClr>
                  <a:srgbClr val="00007d"/>
                </a:buClr>
                <a:buSzPct val="75000"/>
                <a:buFont typeface="Arial"/>
                <a:buAutoNum type="arabicPeriod"/>
                <a:tabLst>
                  <a:tab algn="l" pos="531720"/>
                  <a:tab algn="l" pos="1446120"/>
                  <a:tab algn="l" pos="2360520"/>
                  <a:tab algn="l" pos="3274920"/>
                  <a:tab algn="l" pos="4189320"/>
                  <a:tab algn="l" pos="5103720"/>
                  <a:tab algn="l" pos="6018120"/>
                  <a:tab algn="l" pos="6932520"/>
                  <a:tab algn="l" pos="7846920"/>
                  <a:tab algn="l" pos="8761320"/>
                  <a:tab algn="l" pos="9675720"/>
                  <a:tab algn="l" pos="10590120"/>
                  <a:tab algn="l" pos="10782360"/>
                </a:tabLst>
              </a:pPr>
              <a:r>
                <a:rPr b="1" lang="en-GB" sz="1800" spc="-1" strike="noStrike">
                  <a:solidFill>
                    <a:srgbClr val="00007d"/>
                  </a:solidFill>
                  <a:latin typeface="Arial"/>
                </a:rPr>
                <a:t>Servizi per l’agricoltura e lo sviluppo rurale 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31720" indent="-531720">
                <a:spcBef>
                  <a:spcPts val="561"/>
                </a:spcBef>
                <a:spcAft>
                  <a:spcPts val="561"/>
                </a:spcAft>
                <a:buClr>
                  <a:srgbClr val="00007d"/>
                </a:buClr>
                <a:buSzPct val="75000"/>
                <a:buFont typeface="Arial"/>
                <a:buAutoNum type="arabicPeriod"/>
                <a:tabLst>
                  <a:tab algn="l" pos="531720"/>
                  <a:tab algn="l" pos="1446120"/>
                  <a:tab algn="l" pos="2360520"/>
                  <a:tab algn="l" pos="3274920"/>
                  <a:tab algn="l" pos="4189320"/>
                  <a:tab algn="l" pos="5103720"/>
                  <a:tab algn="l" pos="6018120"/>
                  <a:tab algn="l" pos="6932520"/>
                  <a:tab algn="l" pos="7846920"/>
                  <a:tab algn="l" pos="8761320"/>
                  <a:tab algn="l" pos="9675720"/>
                  <a:tab algn="l" pos="10590120"/>
                  <a:tab algn="l" pos="10782360"/>
                </a:tabLst>
              </a:pPr>
              <a:r>
                <a:rPr b="1" lang="en-GB" sz="1800" spc="-1" strike="noStrike">
                  <a:solidFill>
                    <a:srgbClr val="00007d"/>
                  </a:solidFill>
                  <a:latin typeface="Arial"/>
                </a:rPr>
                <a:t>Servizi socio-sanitari 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(2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31720" indent="-531720">
                <a:spcBef>
                  <a:spcPts val="561"/>
                </a:spcBef>
                <a:spcAft>
                  <a:spcPts val="561"/>
                </a:spcAft>
                <a:buClr>
                  <a:srgbClr val="00007d"/>
                </a:buClr>
                <a:buSzPct val="75000"/>
                <a:buFont typeface="Arial"/>
                <a:buAutoNum type="arabicPeriod"/>
                <a:tabLst>
                  <a:tab algn="l" pos="531720"/>
                  <a:tab algn="l" pos="1446120"/>
                  <a:tab algn="l" pos="2360520"/>
                  <a:tab algn="l" pos="3274920"/>
                  <a:tab algn="l" pos="4189320"/>
                  <a:tab algn="l" pos="5103720"/>
                  <a:tab algn="l" pos="6018120"/>
                  <a:tab algn="l" pos="6932520"/>
                  <a:tab algn="l" pos="7846920"/>
                  <a:tab algn="l" pos="8761320"/>
                  <a:tab algn="l" pos="9675720"/>
                  <a:tab algn="l" pos="10590120"/>
                  <a:tab algn="l" pos="10782360"/>
                </a:tabLst>
              </a:pPr>
              <a:r>
                <a:rPr b="1" lang="en-GB" sz="1800" spc="-1" strike="noStrike">
                  <a:solidFill>
                    <a:srgbClr val="00007d"/>
                  </a:solidFill>
                  <a:latin typeface="Arial"/>
                </a:rPr>
                <a:t>Servizi per l’enogastronomia e l’ospitalità alberghiera 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(2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31720" indent="-531720">
                <a:spcBef>
                  <a:spcPts val="561"/>
                </a:spcBef>
                <a:spcAft>
                  <a:spcPts val="561"/>
                </a:spcAft>
                <a:buClr>
                  <a:srgbClr val="00007d"/>
                </a:buClr>
                <a:buSzPct val="75000"/>
                <a:buFont typeface="Arial"/>
                <a:buAutoNum type="arabicPeriod"/>
                <a:tabLst>
                  <a:tab algn="l" pos="531720"/>
                  <a:tab algn="l" pos="1446120"/>
                  <a:tab algn="l" pos="2360520"/>
                  <a:tab algn="l" pos="3274920"/>
                  <a:tab algn="l" pos="4189320"/>
                  <a:tab algn="l" pos="5103720"/>
                  <a:tab algn="l" pos="6018120"/>
                  <a:tab algn="l" pos="6932520"/>
                  <a:tab algn="l" pos="7846920"/>
                  <a:tab algn="l" pos="8761320"/>
                  <a:tab algn="l" pos="9675720"/>
                  <a:tab algn="l" pos="10590120"/>
                  <a:tab algn="l" pos="10782360"/>
                </a:tabLst>
              </a:pPr>
              <a:r>
                <a:rPr b="1" lang="en-GB" sz="1800" spc="-1" strike="noStrike">
                  <a:solidFill>
                    <a:srgbClr val="00007d"/>
                  </a:solidFill>
                  <a:latin typeface="Arial"/>
                </a:rPr>
                <a:t>Servizi commerciali 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(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31720" indent="-531720">
                <a:spcBef>
                  <a:spcPts val="451"/>
                </a:spcBef>
                <a:tabLst>
                  <a:tab algn="l" pos="0"/>
                  <a:tab algn="l" pos="531720"/>
                  <a:tab algn="l" pos="1446120"/>
                  <a:tab algn="l" pos="2360520"/>
                  <a:tab algn="l" pos="3274920"/>
                  <a:tab algn="l" pos="4189320"/>
                  <a:tab algn="l" pos="5103720"/>
                  <a:tab algn="l" pos="6018120"/>
                  <a:tab algn="l" pos="6932520"/>
                  <a:tab algn="l" pos="7846920"/>
                  <a:tab algn="l" pos="8761320"/>
                  <a:tab algn="l" pos="9675720"/>
                  <a:tab algn="l" pos="1059012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9"/>
            <p:cNvSpPr/>
            <p:nvPr/>
          </p:nvSpPr>
          <p:spPr>
            <a:xfrm>
              <a:off x="4570560" y="2321280"/>
              <a:ext cx="4319280" cy="36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1720" indent="-531720">
                <a:spcBef>
                  <a:spcPts val="437"/>
                </a:spcBef>
                <a:spcAft>
                  <a:spcPts val="437"/>
                </a:spcAft>
                <a:buClr>
                  <a:srgbClr val="00007d"/>
                </a:buClr>
                <a:buSzPct val="75000"/>
                <a:buFont typeface="Arial"/>
                <a:buAutoNum type="arabicPeriod"/>
                <a:tabLst>
                  <a:tab algn="l" pos="531720"/>
                  <a:tab algn="l" pos="1446120"/>
                  <a:tab algn="l" pos="2360520"/>
                  <a:tab algn="l" pos="3274920"/>
                  <a:tab algn="l" pos="4189320"/>
                  <a:tab algn="l" pos="5103720"/>
                  <a:tab algn="l" pos="6018120"/>
                  <a:tab algn="l" pos="6932520"/>
                  <a:tab algn="l" pos="7846920"/>
                  <a:tab algn="l" pos="8761320"/>
                  <a:tab algn="l" pos="9675720"/>
                  <a:tab algn="l" pos="10590120"/>
                  <a:tab algn="l" pos="10782360"/>
                </a:tabLst>
              </a:pPr>
              <a:r>
                <a:rPr b="1" lang="en-GB" sz="1800" spc="-1" strike="noStrike">
                  <a:solidFill>
                    <a:srgbClr val="00007d"/>
                  </a:solidFill>
                  <a:latin typeface="Arial"/>
                </a:rPr>
                <a:t>Produzioni artigianali e industriali 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31720" indent="-531720">
                <a:spcBef>
                  <a:spcPts val="437"/>
                </a:spcBef>
                <a:spcAft>
                  <a:spcPts val="437"/>
                </a:spcAft>
                <a:buClr>
                  <a:srgbClr val="00007d"/>
                </a:buClr>
                <a:buSzPct val="75000"/>
                <a:buFont typeface="Arial"/>
                <a:buAutoNum type="arabicPeriod"/>
                <a:tabLst>
                  <a:tab algn="l" pos="531720"/>
                  <a:tab algn="l" pos="1446120"/>
                  <a:tab algn="l" pos="2360520"/>
                  <a:tab algn="l" pos="3274920"/>
                  <a:tab algn="l" pos="4189320"/>
                  <a:tab algn="l" pos="5103720"/>
                  <a:tab algn="l" pos="6018120"/>
                  <a:tab algn="l" pos="6932520"/>
                  <a:tab algn="l" pos="7846920"/>
                  <a:tab algn="l" pos="8761320"/>
                  <a:tab algn="l" pos="9675720"/>
                  <a:tab algn="l" pos="10590120"/>
                  <a:tab algn="l" pos="10782360"/>
                </a:tabLst>
              </a:pPr>
              <a:r>
                <a:rPr b="1" lang="en-GB" sz="1800" spc="-1" strike="noStrike">
                  <a:solidFill>
                    <a:srgbClr val="00007d"/>
                  </a:solidFill>
                  <a:latin typeface="Arial"/>
                </a:rPr>
                <a:t>Manutenzione e l’assistenza tecnica 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(3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>
              <a:off x="4570560" y="1557360"/>
              <a:ext cx="1080" cy="439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1"/>
            <p:cNvSpPr/>
            <p:nvPr/>
          </p:nvSpPr>
          <p:spPr>
            <a:xfrm>
              <a:off x="250920" y="2321280"/>
              <a:ext cx="863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2"/>
            <p:cNvSpPr/>
            <p:nvPr/>
          </p:nvSpPr>
          <p:spPr>
            <a:xfrm>
              <a:off x="250920" y="1557360"/>
              <a:ext cx="1440" cy="439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"/>
            <p:cNvSpPr/>
            <p:nvPr/>
          </p:nvSpPr>
          <p:spPr>
            <a:xfrm>
              <a:off x="8890200" y="1557360"/>
              <a:ext cx="1080" cy="439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4"/>
            <p:cNvSpPr/>
            <p:nvPr/>
          </p:nvSpPr>
          <p:spPr>
            <a:xfrm>
              <a:off x="250920" y="1557360"/>
              <a:ext cx="863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5"/>
            <p:cNvSpPr/>
            <p:nvPr/>
          </p:nvSpPr>
          <p:spPr>
            <a:xfrm>
              <a:off x="250920" y="5948640"/>
              <a:ext cx="863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0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20"/>
          <p:cNvSpPr/>
          <p:nvPr/>
        </p:nvSpPr>
        <p:spPr>
          <a:xfrm>
            <a:off x="250920" y="5349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2 SETTORI - 6 INDIRIZ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Carico orario - 32 ore settima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Fra parentesi il numero degli indirizzi attivati nelle scuole toscan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A4D8-F5BE-4466-974C-20182310A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8166240" y="0"/>
            <a:ext cx="977760" cy="1009800"/>
            <a:chOff x="8166240" y="0"/>
            <a:chExt cx="977760" cy="1009800"/>
          </a:xfrm>
        </p:grpSpPr>
        <p:pic>
          <p:nvPicPr>
            <p:cNvPr id="7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28960" y="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9"/>
            <p:cNvSpPr/>
            <p:nvPr/>
          </p:nvSpPr>
          <p:spPr>
            <a:xfrm>
              <a:off x="8166240" y="47016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53"/>
          <p:cNvSpPr/>
          <p:nvPr/>
        </p:nvSpPr>
        <p:spPr>
          <a:xfrm>
            <a:off x="324000" y="1484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"/>
          <p:cNvSpPr/>
          <p:nvPr/>
        </p:nvSpPr>
        <p:spPr>
          <a:xfrm>
            <a:off x="858960" y="620640"/>
            <a:ext cx="7284960" cy="7034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ttangolo 8"/>
          <p:cNvSpPr/>
          <p:nvPr/>
        </p:nvSpPr>
        <p:spPr>
          <a:xfrm>
            <a:off x="880920" y="1984320"/>
            <a:ext cx="72853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7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Orientare era solo un problema famigl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7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Precoce ingresso nel mondo degli adu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7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Scelte ridotte ma 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7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Lentezza delle inform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7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Durata della vita molto breve ma idea (sbagliata) di un mondo s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egnaposto piè di pagina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4760" y="18900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IDENTITÀ ISTITUTI PROFESS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468360" y="1268280"/>
            <a:ext cx="8207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7920">
              <a:spcBef>
                <a:spcPts val="3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Arial"/>
              </a:rPr>
              <a:t>Percorsi </a:t>
            </a:r>
            <a:r>
              <a:rPr b="1" lang="en-GB" sz="2400" spc="-1" strike="noStrike">
                <a:solidFill>
                  <a:srgbClr val="5b5b98"/>
                </a:solidFill>
                <a:latin typeface="Arial"/>
              </a:rPr>
              <a:t>quinquennali</a:t>
            </a:r>
            <a:r>
              <a:rPr b="1" lang="en-GB" sz="2400" spc="-1" strike="noStrike">
                <a:solidFill>
                  <a:srgbClr val="00007d"/>
                </a:solidFill>
                <a:latin typeface="Arial"/>
              </a:rPr>
              <a:t> con un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olida base</a:t>
            </a:r>
            <a:r>
              <a:rPr b="1" lang="en-GB" sz="24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di</a:t>
            </a:r>
            <a:r>
              <a:rPr b="1" lang="en-GB" sz="24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struzione generale</a:t>
            </a:r>
            <a:r>
              <a:rPr b="1" lang="en-GB" sz="24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c10311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ecnico professionale</a:t>
            </a:r>
            <a:r>
              <a:rPr b="1" lang="en-GB" sz="2400" spc="-1" strike="noStrike">
                <a:solidFill>
                  <a:srgbClr val="dc2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per acquisire la cultura del settore produttivo di riferimento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in una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visione sistemica</a:t>
            </a:r>
            <a:r>
              <a:rPr b="1" lang="en-GB" sz="2400" spc="-1" strike="noStrike">
                <a:solidFill>
                  <a:srgbClr val="9999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42782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7"/>
          <p:cNvGrpSpPr/>
          <p:nvPr/>
        </p:nvGrpSpPr>
        <p:grpSpPr>
          <a:xfrm>
            <a:off x="179280" y="2995560"/>
            <a:ext cx="8713440" cy="3312720"/>
            <a:chOff x="179280" y="2995560"/>
            <a:chExt cx="8713440" cy="3312720"/>
          </a:xfrm>
        </p:grpSpPr>
        <p:sp>
          <p:nvSpPr>
            <p:cNvPr id="308" name="Rectangle 8"/>
            <p:cNvSpPr/>
            <p:nvPr/>
          </p:nvSpPr>
          <p:spPr>
            <a:xfrm>
              <a:off x="179280" y="2995560"/>
              <a:ext cx="1245960" cy="9270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1425240" y="2995560"/>
              <a:ext cx="74674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algn="just">
                <a:spcBef>
                  <a:spcPts val="700"/>
                </a:spcBef>
                <a:tabLst>
                  <a:tab algn="l" pos="0"/>
                  <a:tab algn="l" pos="444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Arial"/>
                </a:rPr>
                <a:t>SAPERI E </a:t>
              </a:r>
              <a:r>
                <a:rPr b="1" lang="it-IT" sz="2000" spc="-1" strike="noStrike">
                  <a:solidFill>
                    <a:srgbClr val="cc0000"/>
                  </a:solidFill>
                  <a:latin typeface="Arial"/>
                </a:rPr>
                <a:t>COMPETENZE</a:t>
              </a:r>
              <a:r>
                <a:rPr b="1" lang="en-GB" sz="18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7d"/>
                  </a:solidFill>
                  <a:latin typeface="Arial"/>
                </a:rPr>
                <a:t>coerenti con le esigenze formative delle filiere di riferimento (produzione di beni e/o serviz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179280" y="3922560"/>
              <a:ext cx="1245960" cy="11124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1425240" y="3922560"/>
              <a:ext cx="7467480" cy="11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179280" y="5035320"/>
              <a:ext cx="1245960" cy="127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1425240" y="5035320"/>
              <a:ext cx="7467480" cy="12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Arial"/>
                </a:rPr>
                <a:t>COMPETENZE</a:t>
              </a:r>
              <a:r>
                <a:rPr b="1" lang="en-GB" sz="2000" spc="-1" strike="noStrike">
                  <a:solidFill>
                    <a:srgbClr val="00007d"/>
                  </a:solidFill>
                  <a:latin typeface="Arial"/>
                </a:rPr>
                <a:t> nell’uso di tecnologie e metodologie innovative in contesti applicativ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4"/>
            <p:cNvSpPr/>
            <p:nvPr/>
          </p:nvSpPr>
          <p:spPr>
            <a:xfrm>
              <a:off x="179280" y="3922560"/>
              <a:ext cx="1245960" cy="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1425240" y="3922560"/>
              <a:ext cx="7467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6"/>
            <p:cNvSpPr/>
            <p:nvPr/>
          </p:nvSpPr>
          <p:spPr>
            <a:xfrm>
              <a:off x="179280" y="5035320"/>
              <a:ext cx="1245960" cy="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7"/>
            <p:cNvSpPr/>
            <p:nvPr/>
          </p:nvSpPr>
          <p:spPr>
            <a:xfrm>
              <a:off x="1425240" y="5035320"/>
              <a:ext cx="7467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1"/>
          <p:cNvSpPr/>
          <p:nvPr/>
        </p:nvSpPr>
        <p:spPr>
          <a:xfrm>
            <a:off x="1619280" y="3789360"/>
            <a:ext cx="71280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APACITÀ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i rispondere alle richieste di personalizzazione dei prodotti e dei servi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2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Op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sa so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la risposta a specifiche esigenze del territorio e ai fabbisogni formativi espressi dal mondo del lavoro e delle profes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e si inseriscono nei nuovi ordinamen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uali ulteriori articolazioni delle aree di indirizzo che integrano e completano l’ordinamento degli istituti tecnici e profess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ante e quali opzio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un “numero contenuto” che consenta di riconoscere i settori produttivi innovativi e di non disperdere il patrimonio di professionalità che si è consolidato in alcune aree produttive del Pa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2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87280" y="14130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300" spc="-1" strike="noStrike">
                <a:solidFill>
                  <a:srgbClr val="000066"/>
                </a:solidFill>
                <a:latin typeface="Arial"/>
              </a:rPr>
              <a:t>MODALITA’ DI ATTIVAZIONE : IL PERCORSO PROSSIM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Decreto Interministeriale Miur – Mef per la definizione dei criteri, degli ambiti e delle modalità necessari all’individuazione delle opzioni previo parere della Conferenza Stato Regioni e Province auto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Elenchi nazionali contenenti le opzioni per gli Istituti Tecnici e per gli Istituti Professionali definite utilizzando gli spazi di fless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Assunzione delle opzioni nella programmazione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dell’offerta formativa  regionale 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sulla base delle necessità de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Ruolo attivo e propositivo delle Istituzioni Scolastiche  per la definizione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dell’offerta formativa re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3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395280" y="1762200"/>
          <a:ext cx="8424720" cy="3368520"/>
        </p:xfrm>
        <a:graphic>
          <a:graphicData uri="http://schemas.openxmlformats.org/drawingml/2006/table">
            <a:tbl>
              <a:tblPr/>
              <a:tblGrid>
                <a:gridCol w="2376360"/>
                <a:gridCol w="4608720"/>
                <a:gridCol w="1214280"/>
                <a:gridCol w="2253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RIZ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ARTICOL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040">
                <a:tc rowSpan="3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Amministrazione, finanza 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Amministrazione, Finanza 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ervizi informativi aziend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Relazioni internazionali per il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Tu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Rettangolo 2"/>
          <p:cNvSpPr/>
          <p:nvPr/>
        </p:nvSpPr>
        <p:spPr>
          <a:xfrm>
            <a:off x="1731240" y="549360"/>
            <a:ext cx="54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PZIONI ISTITUTI TECN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ttore ECONOMICO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1/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3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14200" y="1484280"/>
          <a:ext cx="8929800" cy="5038920"/>
        </p:xfrm>
        <a:graphic>
          <a:graphicData uri="http://schemas.openxmlformats.org/drawingml/2006/table">
            <a:tbl>
              <a:tblPr/>
              <a:tblGrid>
                <a:gridCol w="1743120"/>
                <a:gridCol w="1785960"/>
                <a:gridCol w="5400720"/>
              </a:tblGrid>
              <a:tr h="33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RIZZO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ARTICOLA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Z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Meccanica, meccatronica ed ene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Meccanica e meccatro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ecnologie delle materie plast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ecnologie dell’occh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Energia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6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rasporti e log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ostruzione del mezz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struzioni aeronaut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struzioni nav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onduzione del mezz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duzione mezzo aer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duzione mezzo nav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duzione di apparati e impianti maritt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Log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ttangolo 2"/>
          <p:cNvSpPr/>
          <p:nvPr/>
        </p:nvSpPr>
        <p:spPr>
          <a:xfrm>
            <a:off x="2079000" y="404640"/>
            <a:ext cx="48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ZIONI ISTITUTI TECN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ttore TECNOLOGICO (1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4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Segnaposto piè di pagina 1"/>
          <p:cNvSpPr/>
          <p:nvPr/>
        </p:nvSpPr>
        <p:spPr>
          <a:xfrm>
            <a:off x="3071880" y="6597720"/>
            <a:ext cx="2895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395280" y="1341360"/>
          <a:ext cx="8352000" cy="5303880"/>
        </p:xfrm>
        <a:graphic>
          <a:graphicData uri="http://schemas.openxmlformats.org/drawingml/2006/table">
            <a:tbl>
              <a:tblPr/>
              <a:tblGrid>
                <a:gridCol w="2178000"/>
                <a:gridCol w="2668680"/>
                <a:gridCol w="35053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RIZ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ARTICOL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Elettronica ed elettrotec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Elettrotec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Elettro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Autom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Informatica e telecomunic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Informa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Telecomunic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Grafica e comunic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Tecnologie carta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Chimica, materiali e biotecn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himica e mater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Tecnologie del cuoio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Biotecnologie ambient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Biotecnologie sanita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Rettangolo 2"/>
          <p:cNvSpPr/>
          <p:nvPr/>
        </p:nvSpPr>
        <p:spPr>
          <a:xfrm>
            <a:off x="2032920" y="333360"/>
            <a:ext cx="48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ZIONI ISTITUTI TECN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ttore TECNOLOGICO (2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4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Segnaposto piè di pagina 1"/>
          <p:cNvSpPr/>
          <p:nvPr/>
        </p:nvSpPr>
        <p:spPr>
          <a:xfrm>
            <a:off x="3025800" y="6597720"/>
            <a:ext cx="2895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324000" y="1413000"/>
          <a:ext cx="8627760" cy="4795560"/>
        </p:xfrm>
        <a:graphic>
          <a:graphicData uri="http://schemas.openxmlformats.org/drawingml/2006/table">
            <a:tbl>
              <a:tblPr/>
              <a:tblGrid>
                <a:gridCol w="2087280"/>
                <a:gridCol w="3600720"/>
                <a:gridCol w="2939760"/>
              </a:tblGrid>
              <a:tr h="36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RIZ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ARTICOL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Sistema m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Tessile, abbigliamento e m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alzature e m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Agraria, agroalimentare e agroind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Produzioni e trasform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Gestione dell'ambiente e del 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Viticoltura ed en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Enotecnico 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Costruzione, ambiente e 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ecnologie del legno nelle costru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Geotec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ttangolo 2"/>
          <p:cNvSpPr/>
          <p:nvPr/>
        </p:nvSpPr>
        <p:spPr>
          <a:xfrm>
            <a:off x="2177640" y="404640"/>
            <a:ext cx="48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ZIONI ISTITUTI TECN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ttore TECNOLOGICO (3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tangolo 3"/>
          <p:cNvSpPr/>
          <p:nvPr/>
        </p:nvSpPr>
        <p:spPr>
          <a:xfrm>
            <a:off x="389160" y="630864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*) Ordinamento di 6 anni pre-es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5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Segnaposto piè di pagina 1"/>
          <p:cNvSpPr/>
          <p:nvPr/>
        </p:nvSpPr>
        <p:spPr>
          <a:xfrm>
            <a:off x="6012000" y="63039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250920" y="1989000"/>
          <a:ext cx="8713800" cy="3883320"/>
        </p:xfrm>
        <a:graphic>
          <a:graphicData uri="http://schemas.openxmlformats.org/drawingml/2006/table">
            <a:tbl>
              <a:tblPr/>
              <a:tblGrid>
                <a:gridCol w="2216160"/>
                <a:gridCol w="2027160"/>
                <a:gridCol w="447048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IRIZ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ARTICOL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OP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RODUZIONI INDUSTRIALI E ARTIGIAN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IND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Arredi e forniture d’inter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Produzioni audiovis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ARTIGIAN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33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Produzioni artigianali del 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33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Produzioni tessili-sartori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MANUTENZIONE E ASSISTENZA TEC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Apparati, impianti e servizi tecnici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   industriali e civi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ff33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Manutenzione dei mezzi di traspo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Rettangolo 3"/>
          <p:cNvSpPr/>
          <p:nvPr/>
        </p:nvSpPr>
        <p:spPr>
          <a:xfrm>
            <a:off x="1291680" y="476280"/>
            <a:ext cx="700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ZIONI ISTITUTI PROFESSION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ttore INDUSTRIA E ARTIGIANATO (1/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6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250920" y="1557360"/>
          <a:ext cx="8713800" cy="4995720"/>
        </p:xfrm>
        <a:graphic>
          <a:graphicData uri="http://schemas.openxmlformats.org/drawingml/2006/table">
            <a:tbl>
              <a:tblPr/>
              <a:tblGrid>
                <a:gridCol w="2270160"/>
                <a:gridCol w="2636640"/>
                <a:gridCol w="3807000"/>
              </a:tblGrid>
              <a:tr h="44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IRIZ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ARTICOL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OP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SERVIZI PER L'AGRICOLTURA E LO SVILUPPO RUR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Gestione risorse forestali e mont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Valorizzazione e commercializzazione dei prodotti agricoli del 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SERVIZI SOCIO-SANIT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OT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ODONTOTEC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SERVIZI PER L'ENOGASTRONOMIA E L'OSPITALITA' ALBERGHI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ENOGASTRONO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Prodotti dolciari artigianali e industr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SERVIZI SALA E VEN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Calibri"/>
                          <a:ea typeface="Times New Roman"/>
                        </a:rPr>
                        <a:t>ACCOGLIENZA TUR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 SERVIZI COMMERC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Promozione commerciale e pubblici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Rettangolo 2"/>
          <p:cNvSpPr/>
          <p:nvPr/>
        </p:nvSpPr>
        <p:spPr>
          <a:xfrm>
            <a:off x="1441080" y="476280"/>
            <a:ext cx="623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ZIONI ISTITUTI PROFESSION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ttore SERVIZI (1/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6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Segnaposto piè di pagina 1"/>
          <p:cNvSpPr/>
          <p:nvPr/>
        </p:nvSpPr>
        <p:spPr>
          <a:xfrm>
            <a:off x="3110040" y="6524640"/>
            <a:ext cx="2895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298440" y="557280"/>
            <a:ext cx="802152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Più ruoli per gli Istituti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Regime sussid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Gli Istituti professionali in Toscana svolgono anche un ruolo integrativo rispetto alla formazione professionale regionale per la realizzazione di percorsi triennali di qualifica con un orario annuale di 1056 ore e l’utilizzazione, oltre alla quota di autonomia del 20%, anche delle quote di flessibilità relative all’area di indirizzo (25% nel primo biennio e 35% nel terzo an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L’offerta sussidiaria integrativa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, consente, agli studenti iscritti ai percorsi quinquennali degli istituti professionali, di conseguire, al termine del terzo anno, anche i titoli di qualifica professionale indicati nella Tabella 1 allegata all’Intesa del 16 dicembre 2010, corrispondenti alle 21 qualifiche triennali di cui all’Allegato 1 all’Accordo Stato-Regioni-Province Autonome del 29 aprile 2010, in relazione all’indirizzo di studio frequentato. Il conseguimento della qualifica triennale è valido quale assolvimento del diritto dovere all’istruzione e alla for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42782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37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34880" y="1628280"/>
            <a:ext cx="82296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2"/>
                </a:solidFill>
                <a:latin typeface="Arial"/>
              </a:rPr>
              <a:t>Sistemare i figli per tutta la loro vita in un “posto” coerente con la classe sociale di apparten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2"/>
                </a:solidFill>
                <a:latin typeface="Arial"/>
              </a:rPr>
              <a:t>Prime esperienze di orientamento (Francia inizi ‘900) finalizzate a far corrispondere il “profilo” dell’individuo al “profilo” di una attività lavora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8058240" y="115920"/>
            <a:ext cx="977760" cy="1009800"/>
            <a:chOff x="8058240" y="115920"/>
            <a:chExt cx="977760" cy="1009800"/>
          </a:xfrm>
        </p:grpSpPr>
        <p:pic>
          <p:nvPicPr>
            <p:cNvPr id="8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0960" y="1159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9"/>
            <p:cNvSpPr/>
            <p:nvPr/>
          </p:nvSpPr>
          <p:spPr>
            <a:xfrm>
              <a:off x="8058240" y="5860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-1387440" y="-18105480"/>
            <a:ext cx="360" cy="157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7"/>
          <p:cNvGrpSpPr/>
          <p:nvPr/>
        </p:nvGrpSpPr>
        <p:grpSpPr>
          <a:xfrm>
            <a:off x="684360" y="1652760"/>
            <a:ext cx="4573440" cy="4995720"/>
            <a:chOff x="684360" y="1652760"/>
            <a:chExt cx="4573440" cy="4995720"/>
          </a:xfrm>
        </p:grpSpPr>
        <p:sp>
          <p:nvSpPr>
            <p:cNvPr id="379" name="Rectangle 5"/>
            <p:cNvSpPr/>
            <p:nvPr/>
          </p:nvSpPr>
          <p:spPr>
            <a:xfrm>
              <a:off x="684360" y="3664080"/>
              <a:ext cx="2285640" cy="9795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1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Percorso IP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III°an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684360" y="5670720"/>
              <a:ext cx="2285640" cy="9777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1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Percorso IP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4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I°an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84360" y="2659320"/>
              <a:ext cx="2285640" cy="9795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1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Percorso IP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IV°an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84360" y="1652760"/>
              <a:ext cx="4573440" cy="9795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1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Percorso IP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V°an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685800" y="4670640"/>
              <a:ext cx="2285640" cy="9795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1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Percorso IP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4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500" spc="-1" strike="noStrike">
                  <a:solidFill>
                    <a:srgbClr val="000080"/>
                  </a:solidFill>
                  <a:latin typeface="Trebuchet MS"/>
                  <a:ea typeface="Arial Unicode MS"/>
                </a:rPr>
                <a:t>II°ann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6"/>
          <p:cNvGrpSpPr/>
          <p:nvPr/>
        </p:nvGrpSpPr>
        <p:grpSpPr>
          <a:xfrm>
            <a:off x="2765520" y="2660760"/>
            <a:ext cx="2508120" cy="3990960"/>
            <a:chOff x="2765520" y="2660760"/>
            <a:chExt cx="2508120" cy="3990960"/>
          </a:xfrm>
        </p:grpSpPr>
        <p:grpSp>
          <p:nvGrpSpPr>
            <p:cNvPr id="385" name="Group 51"/>
            <p:cNvGrpSpPr/>
            <p:nvPr/>
          </p:nvGrpSpPr>
          <p:grpSpPr>
            <a:xfrm>
              <a:off x="2987640" y="2660760"/>
              <a:ext cx="2286000" cy="3990960"/>
              <a:chOff x="2987640" y="2660760"/>
              <a:chExt cx="2286000" cy="3990960"/>
            </a:xfrm>
          </p:grpSpPr>
          <p:sp>
            <p:nvSpPr>
              <p:cNvPr id="386" name="Rectangle 10"/>
              <p:cNvSpPr/>
              <p:nvPr/>
            </p:nvSpPr>
            <p:spPr>
              <a:xfrm>
                <a:off x="2987640" y="4672080"/>
                <a:ext cx="2286000" cy="9795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068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1" lang="en-GB" sz="15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Percorso IeF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GB" sz="15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II°an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1"/>
              <p:cNvSpPr/>
              <p:nvPr/>
            </p:nvSpPr>
            <p:spPr>
              <a:xfrm>
                <a:off x="2987640" y="3665520"/>
                <a:ext cx="2286000" cy="9795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068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1" lang="en-GB" sz="15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Percorso IeF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GB" sz="15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III°an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2"/>
              <p:cNvSpPr/>
              <p:nvPr/>
            </p:nvSpPr>
            <p:spPr>
              <a:xfrm>
                <a:off x="2987640" y="5672160"/>
                <a:ext cx="2286000" cy="9795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0680" bIns="40680" anchor="ctr">
                <a:noAutofit/>
              </a:bodyPr>
              <a:p>
                <a:pPr algn="ctr">
                  <a:lnSpc>
                    <a:spcPct val="104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1" lang="en-GB" sz="15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Percorso IeF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4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GB" sz="15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I°an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"/>
              <p:cNvSpPr/>
              <p:nvPr/>
            </p:nvSpPr>
            <p:spPr>
              <a:xfrm>
                <a:off x="2987640" y="2660760"/>
                <a:ext cx="2286000" cy="97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068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1" lang="en-GB" sz="15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Percorso IeF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GB" sz="15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IV°an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8"/>
            <p:cNvGrpSpPr/>
            <p:nvPr/>
          </p:nvGrpSpPr>
          <p:grpSpPr>
            <a:xfrm>
              <a:off x="2765520" y="3038760"/>
              <a:ext cx="326880" cy="3219480"/>
              <a:chOff x="2765520" y="3038760"/>
              <a:chExt cx="326880" cy="3219480"/>
            </a:xfrm>
          </p:grpSpPr>
          <p:sp>
            <p:nvSpPr>
              <p:cNvPr id="391" name="AutoShape 15"/>
              <p:cNvSpPr/>
              <p:nvPr/>
            </p:nvSpPr>
            <p:spPr>
              <a:xfrm>
                <a:off x="2765520" y="5051520"/>
                <a:ext cx="326880" cy="162000"/>
              </a:xfrm>
              <a:prstGeom prst="leftRightArrow">
                <a:avLst>
                  <a:gd name="adj1" fmla="val 50000"/>
                  <a:gd name="adj2" fmla="val 40168"/>
                </a:avLst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16"/>
              <p:cNvSpPr/>
              <p:nvPr/>
            </p:nvSpPr>
            <p:spPr>
              <a:xfrm>
                <a:off x="2765520" y="4137120"/>
                <a:ext cx="326880" cy="162000"/>
              </a:xfrm>
              <a:prstGeom prst="leftRightArrow">
                <a:avLst>
                  <a:gd name="adj1" fmla="val 50000"/>
                  <a:gd name="adj2" fmla="val 40168"/>
                </a:avLst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17"/>
              <p:cNvSpPr/>
              <p:nvPr/>
            </p:nvSpPr>
            <p:spPr>
              <a:xfrm>
                <a:off x="2765520" y="6096240"/>
                <a:ext cx="326880" cy="162000"/>
              </a:xfrm>
              <a:prstGeom prst="leftRightArrow">
                <a:avLst>
                  <a:gd name="adj1" fmla="val 50000"/>
                  <a:gd name="adj2" fmla="val 40168"/>
                </a:avLst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AutoShape 18"/>
              <p:cNvSpPr/>
              <p:nvPr/>
            </p:nvSpPr>
            <p:spPr>
              <a:xfrm>
                <a:off x="2765520" y="3038760"/>
                <a:ext cx="326880" cy="162000"/>
              </a:xfrm>
              <a:prstGeom prst="leftRightArrow">
                <a:avLst>
                  <a:gd name="adj1" fmla="val 50000"/>
                  <a:gd name="adj2" fmla="val 40168"/>
                </a:avLst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57"/>
          <p:cNvGrpSpPr/>
          <p:nvPr/>
        </p:nvGrpSpPr>
        <p:grpSpPr>
          <a:xfrm>
            <a:off x="5076720" y="2660760"/>
            <a:ext cx="3166920" cy="4007880"/>
            <a:chOff x="5076720" y="2660760"/>
            <a:chExt cx="3166920" cy="4007880"/>
          </a:xfrm>
        </p:grpSpPr>
        <p:grpSp>
          <p:nvGrpSpPr>
            <p:cNvPr id="396" name="Group 52"/>
            <p:cNvGrpSpPr/>
            <p:nvPr/>
          </p:nvGrpSpPr>
          <p:grpSpPr>
            <a:xfrm>
              <a:off x="5321160" y="2660760"/>
              <a:ext cx="2922480" cy="4007880"/>
              <a:chOff x="5321160" y="2660760"/>
              <a:chExt cx="2922480" cy="4007880"/>
            </a:xfrm>
          </p:grpSpPr>
          <p:sp>
            <p:nvSpPr>
              <p:cNvPr id="397" name="Rectangle 20"/>
              <p:cNvSpPr/>
              <p:nvPr/>
            </p:nvSpPr>
            <p:spPr>
              <a:xfrm>
                <a:off x="5321160" y="2660760"/>
                <a:ext cx="2922480" cy="9777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0680" bIns="40680" anchor="ctr">
                <a:noAutofit/>
              </a:bodyPr>
              <a:p>
                <a:pPr marL="177840" indent="-177840">
                  <a:lnSpc>
                    <a:spcPct val="9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407880"/>
                    <a:tab algn="l" pos="816120"/>
                    <a:tab algn="l" pos="1224000"/>
                    <a:tab algn="l" pos="163188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</a:tabLst>
                </a:pPr>
                <a:r>
                  <a:rPr b="1" lang="en-GB" sz="1300" spc="-1" strike="noStrike">
                    <a:solidFill>
                      <a:srgbClr val="660033"/>
                    </a:solidFill>
                    <a:latin typeface="Arial"/>
                    <a:ea typeface="Arial Unicode MS"/>
                  </a:rPr>
                  <a:t>Attività laboratorial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177840">
                  <a:lnSpc>
                    <a:spcPct val="9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407880"/>
                    <a:tab algn="l" pos="816120"/>
                    <a:tab algn="l" pos="1224000"/>
                    <a:tab algn="l" pos="163188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</a:tabLst>
                </a:pPr>
                <a:r>
                  <a:rPr b="1" lang="en-GB" sz="1300" spc="-1" strike="noStrike">
                    <a:solidFill>
                      <a:srgbClr val="660033"/>
                    </a:solidFill>
                    <a:latin typeface="Arial"/>
                    <a:ea typeface="Arial Unicode MS"/>
                  </a:rPr>
                  <a:t>Percorsi alternanzascuola-lavor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177840">
                  <a:lnSpc>
                    <a:spcPct val="9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407880"/>
                    <a:tab algn="l" pos="816120"/>
                    <a:tab algn="l" pos="1224000"/>
                    <a:tab algn="l" pos="163188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</a:tabLst>
                </a:pPr>
                <a:r>
                  <a:rPr b="1" lang="en-GB" sz="1300" spc="-1" strike="noStrike">
                    <a:solidFill>
                      <a:srgbClr val="660033"/>
                    </a:solidFill>
                    <a:latin typeface="Arial"/>
                    <a:ea typeface="Arial Unicode MS"/>
                  </a:rPr>
                  <a:t>Esam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177840">
                  <a:lnSpc>
                    <a:spcPct val="93000"/>
                  </a:lnSpc>
                  <a:tabLst>
                    <a:tab algn="l" pos="0"/>
                    <a:tab algn="l" pos="407880"/>
                    <a:tab algn="l" pos="816120"/>
                    <a:tab algn="l" pos="1224000"/>
                    <a:tab algn="l" pos="163188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21"/>
              <p:cNvSpPr/>
              <p:nvPr/>
            </p:nvSpPr>
            <p:spPr>
              <a:xfrm>
                <a:off x="5321160" y="3678120"/>
                <a:ext cx="2922480" cy="97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0680" bIns="40680" anchor="ctr">
                <a:noAutofit/>
              </a:bodyPr>
              <a:p>
                <a:pPr marL="177840" indent="-177840">
                  <a:buClr>
                    <a:srgbClr val="660033"/>
                  </a:buClr>
                  <a:buFont typeface="Arial"/>
                  <a:buChar char="•"/>
                  <a:tabLst>
                    <a:tab algn="l" pos="407880"/>
                    <a:tab algn="l" pos="816120"/>
                    <a:tab algn="l" pos="1224000"/>
                    <a:tab algn="l" pos="163188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</a:tabLst>
                </a:pPr>
                <a:r>
                  <a:rPr b="1" lang="en-GB" sz="1300" spc="-1" strike="noStrike">
                    <a:solidFill>
                      <a:srgbClr val="660033"/>
                    </a:solidFill>
                    <a:latin typeface="Arial"/>
                  </a:rPr>
                  <a:t>Attività laboratorial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177840">
                  <a:buClr>
                    <a:srgbClr val="660033"/>
                  </a:buClr>
                  <a:buFont typeface="Arial"/>
                  <a:buChar char="•"/>
                  <a:tabLst>
                    <a:tab algn="l" pos="407880"/>
                    <a:tab algn="l" pos="816120"/>
                    <a:tab algn="l" pos="1224000"/>
                    <a:tab algn="l" pos="163188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</a:tabLst>
                </a:pPr>
                <a:r>
                  <a:rPr b="1" lang="en-GB" sz="1300" spc="-1" strike="noStrike">
                    <a:solidFill>
                      <a:srgbClr val="660033"/>
                    </a:solidFill>
                    <a:latin typeface="Arial"/>
                  </a:rPr>
                  <a:t>Percorsi alternanzascuola-lavor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7840" indent="-177840">
                  <a:buClr>
                    <a:srgbClr val="660033"/>
                  </a:buClr>
                  <a:buFont typeface="Arial"/>
                  <a:buChar char="•"/>
                  <a:tabLst>
                    <a:tab algn="l" pos="407880"/>
                    <a:tab algn="l" pos="816120"/>
                    <a:tab algn="l" pos="1224000"/>
                    <a:tab algn="l" pos="163188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</a:tabLst>
                </a:pPr>
                <a:r>
                  <a:rPr b="1" lang="en-GB" sz="1300" spc="-1" strike="noStrike">
                    <a:solidFill>
                      <a:srgbClr val="660033"/>
                    </a:solidFill>
                    <a:latin typeface="Arial"/>
                  </a:rPr>
                  <a:t>Esam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22"/>
              <p:cNvSpPr/>
              <p:nvPr/>
            </p:nvSpPr>
            <p:spPr>
              <a:xfrm>
                <a:off x="5321160" y="4682880"/>
                <a:ext cx="2922480" cy="97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068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1" lang="en-GB" sz="13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Attività laboratorial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29"/>
              <p:cNvSpPr/>
              <p:nvPr/>
            </p:nvSpPr>
            <p:spPr>
              <a:xfrm>
                <a:off x="5321160" y="5689440"/>
                <a:ext cx="2922480" cy="97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068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1" lang="en-GB" sz="1300" spc="-1" strike="noStrike">
                    <a:solidFill>
                      <a:srgbClr val="660033"/>
                    </a:solidFill>
                    <a:latin typeface="Trebuchet MS"/>
                    <a:ea typeface="Arial Unicode MS"/>
                  </a:rPr>
                  <a:t>-Attività laboratorial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50"/>
            <p:cNvGrpSpPr/>
            <p:nvPr/>
          </p:nvGrpSpPr>
          <p:grpSpPr>
            <a:xfrm>
              <a:off x="5076720" y="3020760"/>
              <a:ext cx="326880" cy="3168360"/>
              <a:chOff x="5076720" y="3020760"/>
              <a:chExt cx="326880" cy="3168360"/>
            </a:xfrm>
          </p:grpSpPr>
          <p:sp>
            <p:nvSpPr>
              <p:cNvPr id="402" name="AutoShape 19"/>
              <p:cNvSpPr/>
              <p:nvPr/>
            </p:nvSpPr>
            <p:spPr>
              <a:xfrm>
                <a:off x="5076720" y="3020760"/>
                <a:ext cx="326880" cy="161640"/>
              </a:xfrm>
              <a:prstGeom prst="rightArrow">
                <a:avLst>
                  <a:gd name="adj1" fmla="val 50000"/>
                  <a:gd name="adj2" fmla="val 50557"/>
                </a:avLst>
              </a:prstGeom>
              <a:solidFill>
                <a:srgbClr val="00007d"/>
              </a:solidFill>
              <a:ln w="93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31"/>
              <p:cNvSpPr/>
              <p:nvPr/>
            </p:nvSpPr>
            <p:spPr>
              <a:xfrm>
                <a:off x="5076720" y="5011200"/>
                <a:ext cx="325440" cy="163800"/>
              </a:xfrm>
              <a:prstGeom prst="rightArrow">
                <a:avLst>
                  <a:gd name="adj1" fmla="val 50000"/>
                  <a:gd name="adj2" fmla="val 49670"/>
                </a:avLst>
              </a:prstGeom>
              <a:solidFill>
                <a:srgbClr val="00007d"/>
              </a:solidFill>
              <a:ln w="93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32"/>
              <p:cNvSpPr/>
              <p:nvPr/>
            </p:nvSpPr>
            <p:spPr>
              <a:xfrm>
                <a:off x="5076720" y="6025680"/>
                <a:ext cx="325440" cy="163440"/>
              </a:xfrm>
              <a:prstGeom prst="rightArrow">
                <a:avLst>
                  <a:gd name="adj1" fmla="val 50000"/>
                  <a:gd name="adj2" fmla="val 49780"/>
                </a:avLst>
              </a:prstGeom>
              <a:solidFill>
                <a:srgbClr val="00007d"/>
              </a:solidFill>
              <a:ln w="93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33"/>
              <p:cNvSpPr/>
              <p:nvPr/>
            </p:nvSpPr>
            <p:spPr>
              <a:xfrm>
                <a:off x="5076720" y="4065120"/>
                <a:ext cx="325440" cy="163440"/>
              </a:xfrm>
              <a:prstGeom prst="rightArrow">
                <a:avLst>
                  <a:gd name="adj1" fmla="val 50000"/>
                  <a:gd name="adj2" fmla="val 49780"/>
                </a:avLst>
              </a:prstGeom>
              <a:solidFill>
                <a:srgbClr val="00007d"/>
              </a:solidFill>
              <a:ln w="93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Group 49"/>
          <p:cNvGrpSpPr/>
          <p:nvPr/>
        </p:nvGrpSpPr>
        <p:grpSpPr>
          <a:xfrm>
            <a:off x="2806560" y="2452680"/>
            <a:ext cx="326880" cy="1488600"/>
            <a:chOff x="2806560" y="2452680"/>
            <a:chExt cx="326880" cy="1488600"/>
          </a:xfrm>
        </p:grpSpPr>
        <p:sp>
          <p:nvSpPr>
            <p:cNvPr id="407" name="AutoShape 42"/>
            <p:cNvSpPr/>
            <p:nvPr/>
          </p:nvSpPr>
          <p:spPr>
            <a:xfrm rot="16200000">
              <a:off x="2721600" y="2537640"/>
              <a:ext cx="496800" cy="326880"/>
            </a:xfrm>
            <a:custGeom>
              <a:avLst/>
              <a:gdLst>
                <a:gd name="textAreaLeft" fmla="*/ 0 w 496800"/>
                <a:gd name="textAreaRight" fmla="*/ 455760 w 496800"/>
                <a:gd name="textAreaTop" fmla="*/ 26208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2" y="0"/>
                  </a:moveTo>
                  <a:lnTo>
                    <a:pt x="14024" y="7992"/>
                  </a:lnTo>
                  <a:lnTo>
                    <a:pt x="15840" y="7992"/>
                  </a:lnTo>
                  <a:lnTo>
                    <a:pt x="15840" y="17294"/>
                  </a:lnTo>
                  <a:lnTo>
                    <a:pt x="0" y="17294"/>
                  </a:lnTo>
                  <a:lnTo>
                    <a:pt x="0" y="21600"/>
                  </a:lnTo>
                  <a:lnTo>
                    <a:pt x="19784" y="21600"/>
                  </a:lnTo>
                  <a:lnTo>
                    <a:pt x="19784" y="7992"/>
                  </a:lnTo>
                  <a:lnTo>
                    <a:pt x="21600" y="7992"/>
                  </a:lnTo>
                  <a:lnTo>
                    <a:pt x="17812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3"/>
            <p:cNvSpPr/>
            <p:nvPr/>
          </p:nvSpPr>
          <p:spPr>
            <a:xfrm rot="16200000">
              <a:off x="2721600" y="3529440"/>
              <a:ext cx="496800" cy="326880"/>
            </a:xfrm>
            <a:custGeom>
              <a:avLst/>
              <a:gdLst>
                <a:gd name="textAreaLeft" fmla="*/ 0 w 496800"/>
                <a:gd name="textAreaRight" fmla="*/ 455760 w 496800"/>
                <a:gd name="textAreaTop" fmla="*/ 26208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2" y="0"/>
                  </a:moveTo>
                  <a:lnTo>
                    <a:pt x="14024" y="7992"/>
                  </a:lnTo>
                  <a:lnTo>
                    <a:pt x="15840" y="7992"/>
                  </a:lnTo>
                  <a:lnTo>
                    <a:pt x="15840" y="17294"/>
                  </a:lnTo>
                  <a:lnTo>
                    <a:pt x="0" y="17294"/>
                  </a:lnTo>
                  <a:lnTo>
                    <a:pt x="0" y="21600"/>
                  </a:lnTo>
                  <a:lnTo>
                    <a:pt x="19784" y="21600"/>
                  </a:lnTo>
                  <a:lnTo>
                    <a:pt x="19784" y="7992"/>
                  </a:lnTo>
                  <a:lnTo>
                    <a:pt x="21600" y="7992"/>
                  </a:lnTo>
                  <a:lnTo>
                    <a:pt x="17812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46"/>
          <p:cNvSpPr/>
          <p:nvPr/>
        </p:nvSpPr>
        <p:spPr>
          <a:xfrm>
            <a:off x="7315200" y="784080"/>
            <a:ext cx="11764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5"/>
          <p:cNvGrpSpPr/>
          <p:nvPr/>
        </p:nvGrpSpPr>
        <p:grpSpPr>
          <a:xfrm>
            <a:off x="5867280" y="1508040"/>
            <a:ext cx="2665440" cy="1170000"/>
            <a:chOff x="5867280" y="1508040"/>
            <a:chExt cx="2665440" cy="1170000"/>
          </a:xfrm>
        </p:grpSpPr>
        <p:sp>
          <p:nvSpPr>
            <p:cNvPr id="411" name="AutoShape 53"/>
            <p:cNvSpPr/>
            <p:nvPr/>
          </p:nvSpPr>
          <p:spPr>
            <a:xfrm>
              <a:off x="6016680" y="2276280"/>
              <a:ext cx="2516040" cy="401760"/>
            </a:xfrm>
            <a:prstGeom prst="borderCallout2">
              <a:avLst>
                <a:gd name="adj1" fmla="val 18750"/>
                <a:gd name="adj2" fmla="val -8333"/>
                <a:gd name="adj3" fmla="val 28458"/>
                <a:gd name="adj4" fmla="val -11481"/>
                <a:gd name="adj5" fmla="val 103953"/>
                <a:gd name="adj6" fmla="val -29777"/>
              </a:avLst>
            </a:prstGeom>
            <a:solidFill>
              <a:srgbClr val="e5c9e5"/>
            </a:solidFill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TS – 1 an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54"/>
            <p:cNvSpPr/>
            <p:nvPr/>
          </p:nvSpPr>
          <p:spPr>
            <a:xfrm>
              <a:off x="5867280" y="1508040"/>
              <a:ext cx="2516400" cy="401760"/>
            </a:xfrm>
            <a:prstGeom prst="borderCallout2">
              <a:avLst>
                <a:gd name="adj1" fmla="val 18750"/>
                <a:gd name="adj2" fmla="val -8333"/>
                <a:gd name="adj3" fmla="val 28458"/>
                <a:gd name="adj4" fmla="val -3027"/>
                <a:gd name="adj5" fmla="val 29643"/>
                <a:gd name="adj6" fmla="val -25865"/>
              </a:avLst>
            </a:prstGeom>
            <a:solidFill>
              <a:srgbClr val="e6e6ff"/>
            </a:solidFill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TS – 2 an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CasellaDiTesto 1"/>
          <p:cNvSpPr/>
          <p:nvPr/>
        </p:nvSpPr>
        <p:spPr>
          <a:xfrm>
            <a:off x="1116000" y="447840"/>
            <a:ext cx="6480360" cy="825480"/>
          </a:xfrm>
          <a:prstGeom prst="rect">
            <a:avLst/>
          </a:prstGeom>
          <a:solidFill>
            <a:srgbClr val="70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percorsi di Istruzione e Formazione professionale (I&amp;F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41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Segnaposto piè di pagina 2"/>
          <p:cNvSpPr/>
          <p:nvPr/>
        </p:nvSpPr>
        <p:spPr>
          <a:xfrm>
            <a:off x="3121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352440" y="447840"/>
            <a:ext cx="764712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Istruzione e Formazione Tecnica Superi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(IF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382680" y="1584360"/>
            <a:ext cx="8623080" cy="49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 progetti IFTS hanno l’intento di attuare u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articolato e condiviso di integrazione fra i sistemi dell’istruzione, scolastica ed universitaria, della formazione professionale e de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n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grammati dalle region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ll’ambito delle loro competenze esclusive in materia di programmazione dell’offerta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Il corso IFTS ha u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durata di due semestri, per un totale di 800/1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or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 la possibilità di prolungamento nel caso di svolgimento dello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ge all’ester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 deve avere u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urata minima di 3 settimane ed una durata massima di 8 setti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gni progetto deve prevedere attività d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rocinio formativo e stage azienda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c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 può essere inferiore al 30% delle 800  or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viste. Nel calcolo non è compreso lo stage all’estero che deve ess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ggiu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Rilasciano un certificato di specializzazione tecnica superi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Accesso al corso gratu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42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258920" y="447840"/>
            <a:ext cx="6481800" cy="90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81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Arial"/>
                <a:ea typeface="Arial Unicode MS"/>
              </a:rPr>
              <a:t>Istituti Tecnici Superiori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Arial"/>
                <a:ea typeface="Arial Unicode MS"/>
              </a:rPr>
              <a:t>(IT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95200" y="1263600"/>
            <a:ext cx="8164440" cy="546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 Unicode MS"/>
              </a:rPr>
              <a:t>Cosa e quanti s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Strutture speciali di alta tecnologi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he costituiscono un canale di istruzione terziaria non universitaria che integra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istruzion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,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formazion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e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lavor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secondo modelli internazionali più avanz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Possono costituirsi in base a esclusiva previsione dei Piani territoriali d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offerta formativa delle Region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In Italia son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59 le strutture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e in Toscana gli ITS son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 Unicode MS"/>
              </a:rPr>
              <a:t>Cosa offr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La possibilità di conseguire i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Diploma di Tecnico Superi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66"/>
              </a:buClr>
              <a:buFont typeface="Arial"/>
              <a:buAutoNum type="arabicPeriod" startAt="3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 Unicode MS"/>
              </a:rPr>
              <a:t>Chi può iscriver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Diplomat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che superano la selezione prevista per accertare un alto potenziale di competenze di base tecniche e tecnologiche, un’adeguata conoscenza della lingua inglese e una competenza informatica avanz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42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3"/>
          <p:cNvSpPr/>
          <p:nvPr/>
        </p:nvSpPr>
        <p:spPr>
          <a:xfrm>
            <a:off x="539640" y="1557360"/>
            <a:ext cx="8099640" cy="336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57200" indent="-457200">
              <a:lnSpc>
                <a:spcPct val="93000"/>
              </a:lnSpc>
              <a:buClr>
                <a:srgbClr val="000066"/>
              </a:buClr>
              <a:buFont typeface="Arial"/>
              <a:buAutoNum type="arabicPeriod" startAt="4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 Unicode MS"/>
              </a:rPr>
              <a:t>Standard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Gli ITS son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Fondazion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di partecipazione di natura privata con personalità giuridica di diritto pub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66"/>
              </a:buClr>
              <a:buFont typeface="Arial"/>
              <a:buAutoNum type="arabicPeriod" startAt="5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 Unicode MS"/>
              </a:rPr>
              <a:t>Standard dei perc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I percorsi hanno una durata d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quattro trimestri con 1800/2000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ore di attività. Possono durare anc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sei trimestr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66"/>
              </a:buClr>
              <a:buFont typeface="Arial"/>
              <a:buAutoNum type="arabicPeriod" startAt="6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 Unicode MS"/>
              </a:rPr>
              <a:t>Titolo finale ed ordinamento dell’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Diploma di tecnico superiore con l’indicazione dell’area tecnologica e della figura nazionale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"/>
          <p:cNvGrpSpPr/>
          <p:nvPr/>
        </p:nvGrpSpPr>
        <p:grpSpPr>
          <a:xfrm>
            <a:off x="8028000" y="189000"/>
            <a:ext cx="977760" cy="1078920"/>
            <a:chOff x="8028000" y="189000"/>
            <a:chExt cx="977760" cy="1078920"/>
          </a:xfrm>
        </p:grpSpPr>
        <p:pic>
          <p:nvPicPr>
            <p:cNvPr id="43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90720" y="189000"/>
              <a:ext cx="5749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9"/>
            <p:cNvSpPr/>
            <p:nvPr/>
          </p:nvSpPr>
          <p:spPr>
            <a:xfrm>
              <a:off x="8028000" y="7282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4880" y="1125360"/>
            <a:ext cx="8229600" cy="1371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.nel corso del ‘9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804760"/>
            <a:ext cx="8229600" cy="285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..informare secondo le regole della buona comunicazione perché gli individui (i ragazzi) ne tengano c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Ruolo (fuorviante) delle statistiche, delle classificazioni, dei tassi di successo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8058240" y="115920"/>
            <a:ext cx="977760" cy="1009800"/>
            <a:chOff x="8058240" y="115920"/>
            <a:chExt cx="977760" cy="1009800"/>
          </a:xfrm>
        </p:grpSpPr>
        <p:pic>
          <p:nvPicPr>
            <p:cNvPr id="8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0960" y="1159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9"/>
            <p:cNvSpPr/>
            <p:nvPr/>
          </p:nvSpPr>
          <p:spPr>
            <a:xfrm>
              <a:off x="8058240" y="5860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Segnaposto piè di pa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58960" y="1557360"/>
            <a:ext cx="7284960" cy="49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2"/>
                </a:solidFill>
                <a:latin typeface="Arial"/>
              </a:rPr>
              <a:t>Scelte innumerevoli ma astratte ed evanesc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2"/>
                </a:solidFill>
                <a:latin typeface="Arial"/>
              </a:rPr>
              <a:t>Scolarizzazione prolungata ma svalutazione dei diplomi sul mercato del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2"/>
                </a:solidFill>
                <a:latin typeface="Arial"/>
              </a:rPr>
              <a:t>Prolungamento dell’adolescenza: giovani più forti e più liberi ma più fragili e dipen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2"/>
                </a:solidFill>
                <a:latin typeface="Arial"/>
              </a:rPr>
              <a:t>Consumatori di orientamento ( open day,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tangolo 4"/>
          <p:cNvSpPr/>
          <p:nvPr/>
        </p:nvSpPr>
        <p:spPr>
          <a:xfrm>
            <a:off x="858960" y="620640"/>
            <a:ext cx="7284960" cy="7034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G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058240" y="115920"/>
            <a:ext cx="977760" cy="1009800"/>
            <a:chOff x="8058240" y="115920"/>
            <a:chExt cx="977760" cy="1009800"/>
          </a:xfrm>
        </p:grpSpPr>
        <p:pic>
          <p:nvPicPr>
            <p:cNvPr id="9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0960" y="1159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8058240" y="5860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0000" y="1981080"/>
            <a:ext cx="7158240" cy="31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Imparare ad orientarsi per acquisire un potere sulla propria vita; per adattarsi ai momenti difficili, per inventare nuove vi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Gli interventi brevi servono solo nelle situazioni di urg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8058240" y="115920"/>
            <a:ext cx="977760" cy="1009800"/>
            <a:chOff x="8058240" y="115920"/>
            <a:chExt cx="977760" cy="1009800"/>
          </a:xfrm>
        </p:grpSpPr>
        <p:pic>
          <p:nvPicPr>
            <p:cNvPr id="9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0960" y="1159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9"/>
            <p:cNvSpPr/>
            <p:nvPr/>
          </p:nvSpPr>
          <p:spPr>
            <a:xfrm>
              <a:off x="8058240" y="5860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0920" y="853560"/>
            <a:ext cx="7754760" cy="552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Impossibilità di scegliere il proprio futuro a colpo sic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Storia personale legata ad un preciso contesto ma anche ad   una storia collet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Suscitare gli  interessi e sviluppare le potenzia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I mestieri, le attività professionali sono soprattutto costrutti  umani in costante evoluzione e mai definiti e defini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8058240" y="115920"/>
            <a:ext cx="977760" cy="1009800"/>
            <a:chOff x="8058240" y="115920"/>
            <a:chExt cx="977760" cy="1009800"/>
          </a:xfrm>
        </p:grpSpPr>
        <p:pic>
          <p:nvPicPr>
            <p:cNvPr id="10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0960" y="1159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9"/>
            <p:cNvSpPr/>
            <p:nvPr/>
          </p:nvSpPr>
          <p:spPr>
            <a:xfrm>
              <a:off x="8058240" y="5860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980720"/>
            <a:ext cx="8229600" cy="35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2"/>
                </a:solidFill>
                <a:latin typeface="Arial"/>
              </a:rPr>
              <a:t>Fare sistema delle compless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mestieri, le professioni non hanno più un loro profilo definito e definitivo ma sono in costante evoluzione e richiedono persone in costante evol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8058240" y="115920"/>
            <a:ext cx="977760" cy="1009800"/>
            <a:chOff x="8058240" y="115920"/>
            <a:chExt cx="977760" cy="1009800"/>
          </a:xfrm>
        </p:grpSpPr>
        <p:pic>
          <p:nvPicPr>
            <p:cNvPr id="10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0960" y="115920"/>
              <a:ext cx="574920" cy="4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9"/>
            <p:cNvSpPr/>
            <p:nvPr/>
          </p:nvSpPr>
          <p:spPr>
            <a:xfrm>
              <a:off x="8058240" y="586080"/>
              <a:ext cx="9777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IU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R per la Tosca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Direzione Gener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Segnaposto piè di pagina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ivery Unit - USR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1:05:11Z</dcterms:created>
  <dc:creator>Ilaria</dc:creator>
  <dc:description/>
  <dc:language>en-US</dc:language>
  <cp:lastModifiedBy>M.I.U.R.</cp:lastModifiedBy>
  <dcterms:modified xsi:type="dcterms:W3CDTF">2011-12-07T11:17:30Z</dcterms:modified>
  <cp:revision>199</cp:revision>
  <dc:subject/>
  <dc:title>Il decreto n° 137/2008</dc:title>
</cp:coreProperties>
</file>